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33906"/>
        <c:axId val="1438194"/>
      </c:barChart>
      <c:catAx>
        <c:axId val="15133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194"/>
        <c:crosses val="autoZero"/>
        <c:auto val="1"/>
        <c:lblAlgn val="ctr"/>
        <c:lblOffset val="100"/>
        <c:noMultiLvlLbl val="0"/>
      </c:catAx>
      <c:valAx>
        <c:axId val="1438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33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702-53FF-44C6-8616-6CFEFF3C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F5D-8207-4E6B-B48E-5E1B9657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365-6F1C-4FB6-83C6-0C3F4FF1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CB8-1F2C-4133-9487-E2F49B59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91F-8AD2-416F-81ED-DF10D44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28D-3179-4733-B9B1-444855F2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CEA-233E-411D-83B0-E503F7A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35F-7431-47DB-B032-328ACFCB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1DD-8FDB-428D-BF15-F678F8CF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A50-174E-49FB-9A62-CA868BE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E18-A093-47BC-A92D-0FFCD050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829-DC42-488A-9CF9-5932701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BB6DE-814E-403E-8B62-658B3117B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