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43206"/>
        <c:axId val="42073835"/>
      </c:barChart>
      <c:catAx>
        <c:axId val="60743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73835"/>
        <c:crosses val="autoZero"/>
        <c:auto val="1"/>
        <c:lblAlgn val="ctr"/>
        <c:lblOffset val="100"/>
        <c:noMultiLvlLbl val="0"/>
      </c:catAx>
      <c:valAx>
        <c:axId val="42073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43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DF2-992D-41E4-A55E-E455BB61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CC3-A193-4D37-B81A-72453279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8CE-A747-421B-BB66-CFF9AFB5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FE2-8778-47E5-A1E8-EC6C7AF0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018-78F3-4FD3-81DD-C91EAA7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14E-FDB2-42D8-A635-134EA4B6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B49-7C88-496A-B6B8-5EBFAE0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50A-12BA-4CC5-9965-204E960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773-43F1-47E5-871B-DA6EC631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2BA-6859-46DD-A76C-287FFBA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A8D-1525-4D5A-8006-F7D8FFE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586-A09D-40BD-84A7-B5B6B6D1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8629-498F-4375-978B-5B92EA124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