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52774"/>
        <c:axId val="1130134"/>
      </c:barChart>
      <c:catAx>
        <c:axId val="14852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134"/>
        <c:crosses val="autoZero"/>
        <c:auto val="1"/>
        <c:lblAlgn val="ctr"/>
        <c:lblOffset val="100"/>
        <c:noMultiLvlLbl val="0"/>
      </c:catAx>
      <c:valAx>
        <c:axId val="1130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2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3F6-FEDD-4565-B8DD-DD44B429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70F-4938-4761-8BED-3920045A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63C-B712-432F-80D6-2B46220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3A0-89F8-4BBA-BA35-DAAD54B7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A1E-CAA2-4FC8-80AE-817BFE7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D3E-B594-42EE-8C92-BF095F9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F35-4E7C-407E-9C8F-75376B2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9A0-1576-431A-BC73-FCB6924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B4-A4FE-4EEC-BE15-0E30BC8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575-F542-4085-8C6B-741DCFA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966-5B4F-4FD2-B79C-3A8C562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A91-0617-4905-83AD-441483A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16314-632E-4C8C-AC34-E03309D3D3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