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62521"/>
        <c:axId val="33652140"/>
      </c:barChart>
      <c:catAx>
        <c:axId val="29662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52140"/>
        <c:crosses val="autoZero"/>
        <c:auto val="1"/>
        <c:lblAlgn val="ctr"/>
        <c:lblOffset val="100"/>
        <c:noMultiLvlLbl val="0"/>
      </c:catAx>
      <c:valAx>
        <c:axId val="33652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62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B19-D7FE-410A-A24C-42F6BB65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FD9-A3CB-43B7-9F45-CF16BA53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47A-9613-4075-B2D5-C48882A9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562-2620-4DC2-BD49-6A252C79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7B2-9F64-401D-A438-9CF2338E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5F8-90C3-470E-BE8C-CC1099D2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495-291E-4617-9FBB-76BA4370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56D-FA77-4904-AA82-D84C33A5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A01-B7B2-4C44-9D9B-1AB8F778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F69-AEF3-4EB0-BE49-D4FED922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0FE-A151-4004-AB5D-4309B9DB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FD4-05A7-4B12-A687-09F1288C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39FBB-8B8D-4B44-961C-71D2612FD0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