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92277"/>
        <c:axId val="24034878"/>
      </c:barChart>
      <c:catAx>
        <c:axId val="95092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34878"/>
        <c:crosses val="autoZero"/>
        <c:auto val="1"/>
        <c:lblAlgn val="ctr"/>
        <c:lblOffset val="100"/>
        <c:noMultiLvlLbl val="0"/>
      </c:catAx>
      <c:valAx>
        <c:axId val="24034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92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97D-E3C0-4DB2-A3D7-9B2922F3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E43A-80B5-49F5-868B-1E961DC2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E28-4BA6-4303-875C-2942B807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667-AF57-4716-9B59-EB9656FB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EAE6-A88F-4CA5-977D-F16447FC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9D4-E3C1-47BE-A37A-91AFDC73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994-2C49-4AEF-BEA7-9952D72F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87E-6E11-4E7E-8479-3F0595C4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29E-6016-48DA-8F8D-8ACE54E7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2624-AA36-47B5-9C8F-4327ECD1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E5A-4BE3-47FA-9F8A-3AC55B4B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699-EA29-447D-91EB-79BB004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73F19-FABC-4219-A594-44C5749B11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