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56612"/>
        <c:axId val="11756808"/>
      </c:barChart>
      <c:catAx>
        <c:axId val="99456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56808"/>
        <c:crosses val="autoZero"/>
        <c:auto val="1"/>
        <c:lblAlgn val="ctr"/>
        <c:lblOffset val="100"/>
        <c:noMultiLvlLbl val="0"/>
      </c:catAx>
      <c:valAx>
        <c:axId val="11756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56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765-B6CA-43F4-8966-150BFEA3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014-2546-4D0F-B99A-7EA13F25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8AB-2BD4-4D65-891F-F9D461A9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336-30AC-48EB-A8D0-9F2760B9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62B-96CE-4D7F-BDF8-E45208A8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52D-2317-4A42-AFBF-3176C810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463-5022-483D-BF04-7F188E5B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E7F-5268-4906-930D-FD33A70D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74F-1EE5-487E-B911-0B74918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D76-9A12-44FD-BF9F-8CB4CBC1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C82-0BF5-41B0-8CCD-1950CF5D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E91-3473-4EBA-8FDC-DEC160D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6D7EB-9514-4A3D-8F7C-9B895C3FA1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