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908165"/>
        <c:axId val="14531514"/>
      </c:barChart>
      <c:catAx>
        <c:axId val="2390816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4531514"/>
        <c:crosses val="autoZero"/>
        <c:auto val="1"/>
        <c:lblAlgn val="ctr"/>
        <c:lblOffset val="100"/>
        <c:noMultiLvlLbl val="0"/>
      </c:catAx>
      <c:valAx>
        <c:axId val="1453151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90816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8D3C-E73C-4CA8-B65D-88AFB4BC74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7F264-768B-4DBB-A2D9-CCBFB8AB42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B3FC0-0B88-4F28-9A67-991385745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7BD78-4975-4D85-8EAA-9AD427EE65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BC54-B7BF-4B49-BE76-CC19D1F684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46A41-5CAE-4C96-B75A-DE2085F16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AC00B-FB48-417B-A485-94C10AF24C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9A232-85C4-42A4-9381-751FAA42B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FB8F9-4DB9-4594-8B79-3DF438837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20E97-E176-4BE7-A18F-039D97467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96796-CF49-445A-A1F5-1BD93C887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EB500-C5FA-4C17-8758-BC0FB10FF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C0C2880-EFB3-445D-8100-B3B7C455EB2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