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33964"/>
        <c:axId val="4214708"/>
      </c:barChart>
      <c:catAx>
        <c:axId val="95733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4708"/>
        <c:crosses val="autoZero"/>
        <c:auto val="1"/>
        <c:lblAlgn val="ctr"/>
        <c:lblOffset val="100"/>
        <c:noMultiLvlLbl val="0"/>
      </c:catAx>
      <c:valAx>
        <c:axId val="4214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33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444-92D5-490E-A898-DC1BA03A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C13-B051-43C1-8124-56A677E1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84E-4D9C-4FF6-B141-FB0C9BCE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0AD-5277-467A-9588-24A1A4F5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8F8-0C73-4156-96FB-84D38CD9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3CB-2A6C-4F14-BEF3-23BD9927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2AC-9F5A-48CC-89C7-02040E33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48A-279B-4F0F-81C6-1CDB437B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377-FAC6-48C4-8314-E421D532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AF3-8B0C-4BDA-AC04-064CDA72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C74-08B3-4357-8858-D670F891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8ED-806F-4874-A385-DDFC8C72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2BE98-4F70-4AC6-97F8-EFCD15CD85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