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13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0.png" ContentType="image/png"/>
  <Override PartName="/ppt/media/image6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543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3"/>
          </p:nvPr>
        </p:nvSpPr>
        <p:spPr>
          <a:xfrm>
            <a:off x="4143240" y="0"/>
            <a:ext cx="31543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4400" cy="359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4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008000"/>
                </a:solidFill>
                <a:latin typeface="Arial"/>
              </a:rPr>
              <a:t>Click to move the slide</a:t>
            </a:r>
            <a:endParaRPr b="0" i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5600" cy="4318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4"/>
          </p:nvPr>
        </p:nvSpPr>
        <p:spPr>
          <a:xfrm>
            <a:off x="0" y="9120240"/>
            <a:ext cx="31543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5"/>
          </p:nvPr>
        </p:nvSpPr>
        <p:spPr>
          <a:xfrm>
            <a:off x="4143240" y="9120240"/>
            <a:ext cx="31543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8A4C85-A1DD-4A38-AA09-EABBFB191319}" type="slidenum"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16B53-84FF-4E58-B0CB-0097ECE475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000" y="379116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0F592-1875-427E-986B-224C68D1D1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092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7E524-8CC0-42DF-A142-9FAFF726E4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804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208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00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804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208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1AA4F-9ABF-4211-A7FC-4E70BA4FD1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205313-9D92-4F2C-AF80-80A058D8533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82BF0-4C0A-445F-BB1D-097E5A9E175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E93C66-0A31-4F37-8011-5BD143CBAE2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15FF96-F9F8-475E-A58D-87951B5514B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A8F526-C8A5-42C6-B860-A3615BC5542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240" y="457200"/>
            <a:ext cx="7273800" cy="54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5E67CD-A061-419E-B78E-FBBAB390EEC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C0D83A-589E-44BF-B295-395963E020C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8D897-FD3D-430E-A930-E094DD93A2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092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0593C7-9E7B-4B93-AF35-B69A498D697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5ABF21-F423-4083-885E-9FC308BD81E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000" y="379116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F76F9B-D838-483F-9C33-35FBB7D57D2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092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420FA2-F25B-4E78-958D-93FEC0F1267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0804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3208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00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0804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3208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54FD66-A891-43F8-BCE8-3BF167CCF1C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7E126-4066-4EFE-8493-905D592715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37EB9-2ACA-4626-973F-FD5054E525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A65C9-3BBD-4EC3-B5AD-5B6B29FBD7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457200"/>
            <a:ext cx="7273800" cy="54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DEAB5-8349-4687-9EBC-03E1329DD2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F5665-8771-452A-A68F-233693BF0C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092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17442-E990-4758-82CE-65AC79A72F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58C51-9389-465D-8AA3-A8C933A1EB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5.jpe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29803" r="0" b="23406"/>
          <a:stretch/>
        </p:blipFill>
        <p:spPr>
          <a:xfrm>
            <a:off x="7451640" y="368280"/>
            <a:ext cx="1692360" cy="792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2323dc"/>
                </a:solidFill>
                <a:latin typeface="Verdana"/>
              </a:rPr>
              <a:t>Click to edit the title text format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698400" indent="-23328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3" marL="16002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6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4" marL="20574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7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5" marL="20574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6" marL="20574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9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3" name="" descr=""/>
          <p:cNvPicPr/>
          <p:nvPr/>
        </p:nvPicPr>
        <p:blipFill>
          <a:blip r:embed="rId10"/>
          <a:stretch/>
        </p:blipFill>
        <p:spPr>
          <a:xfrm>
            <a:off x="0" y="6453360"/>
            <a:ext cx="9144000" cy="40464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154080" y="6458040"/>
            <a:ext cx="6578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© DRAFT 2007 Scott Lewis, BEA Systems; Chris Aniszczyk, IBM ; Made available under the Eclipse Public License v 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911640" y="6457680"/>
            <a:ext cx="21178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1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9FA028-5B5B-4A2C-B042-AA5377368C0E}" type="slidenum">
              <a:rPr b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564000" cy="3564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4920" y="2535120"/>
            <a:ext cx="79390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4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0" i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324560" y="64990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© 2002 IBM Corporati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23920" y="6226200"/>
            <a:ext cx="41148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26880" indent="-326880">
              <a:lnSpc>
                <a:spcPct val="98000"/>
              </a:lnSpc>
              <a:spcBef>
                <a:spcPts val="326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Arial"/>
              </a:rPr>
              <a:t>Confidential 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5950080"/>
            <a:ext cx="9144000" cy="9079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 type="sldNum" idx="2"/>
          </p:nvPr>
        </p:nvSpPr>
        <p:spPr>
          <a:xfrm>
            <a:off x="6883560" y="254160"/>
            <a:ext cx="211752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FE4B2F-36F0-4CAC-BEF6-DD1A73D3F59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4280" y="6286680"/>
            <a:ext cx="6255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Arial"/>
              </a:rPr>
              <a:t>July 31, 2007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137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8400" indent="-23328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6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7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9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0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3.xml"/><Relationship Id="rId11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http://wiki.eclipse.org/ECF_API_Docs" TargetMode="External"/><Relationship Id="rId3" Type="http://schemas.openxmlformats.org/officeDocument/2006/relationships/hyperlink" Target="http://wiki.eclipse.org/ECF_API_Docs" TargetMode="External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<Relationship Id="rId11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8.png"/><Relationship Id="rId3" Type="http://schemas.openxmlformats.org/officeDocument/2006/relationships/hyperlink" Target="http://wiki.eclipse.org/ECF_Ganymede_Roadmap" TargetMode="External"/><Relationship Id="rId4" Type="http://schemas.openxmlformats.org/officeDocument/2006/relationships/hyperlink" Target="http://wiki.eclipse.org/ECF_Ganymede_Roadmap" TargetMode="External"/><Relationship Id="rId5" Type="http://schemas.openxmlformats.org/officeDocument/2006/relationships/image" Target="../media/image11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3.xml"/><Relationship Id="rId1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2.png"/><Relationship Id="rId5" Type="http://schemas.openxmlformats.org/officeDocument/2006/relationships/image" Target="../media/image19.png"/><Relationship Id="rId6" Type="http://schemas.openxmlformats.org/officeDocument/2006/relationships/hyperlink" Target="http://www.eclipse.org/ecf" TargetMode="External"/><Relationship Id="rId7" Type="http://schemas.openxmlformats.org/officeDocument/2006/relationships/hyperlink" Target="http://www.eclipse.org/ecf" TargetMode="External"/><Relationship Id="rId8" Type="http://schemas.openxmlformats.org/officeDocument/2006/relationships/image" Target="../media/image12.png"/><Relationship Id="rId9" Type="http://schemas.openxmlformats.org/officeDocument/2006/relationships/image" Target="../media/image19.png"/><Relationship Id="rId10" Type="http://schemas.openxmlformats.org/officeDocument/2006/relationships/image" Target="../media/image12.png"/><Relationship Id="rId11" Type="http://schemas.openxmlformats.org/officeDocument/2006/relationships/image" Target="../media/image8.png"/><Relationship Id="rId12" Type="http://schemas.openxmlformats.org/officeDocument/2006/relationships/hyperlink" Target="http://wiki.eclipse.org/BugDay" TargetMode="External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3.xml"/><Relationship Id="rId1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www.eclipse.org/ecf" TargetMode="External"/><Relationship Id="rId3" Type="http://schemas.openxmlformats.org/officeDocument/2006/relationships/image" Target="../media/image10.png"/><Relationship Id="rId4" Type="http://schemas.openxmlformats.org/officeDocument/2006/relationships/image" Target="../media/image12.png"/><Relationship Id="rId5" Type="http://schemas.openxmlformats.org/officeDocument/2006/relationships/image" Target="../media/image11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0.png"/><Relationship Id="rId5" Type="http://schemas.openxmlformats.org/officeDocument/2006/relationships/image" Target="../media/image12.png"/><Relationship Id="rId6" Type="http://schemas.openxmlformats.org/officeDocument/2006/relationships/image" Target="../media/image10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8.xml"/><Relationship Id="rId11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8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4920" y="2535120"/>
            <a:ext cx="79549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Introduction to the Eclipse Communication Framework (ECF)</a:t>
            </a:r>
            <a:br>
              <a:rPr sz="2800"/>
            </a:br>
            <a:endParaRPr b="0" i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949400" y="4060440"/>
            <a:ext cx="6400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Scott Lewis (BEA Systems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Chris Aniszczyk (IBM Lotus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3A5FE7-4A8D-4B75-AD75-CE8520C522BD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240" y="225000"/>
            <a:ext cx="728964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Generic Server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7770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Starting as an </a:t>
            </a: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IApplication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AppGenericServer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240" y="255600"/>
            <a:ext cx="7289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Dynamic Service Discovery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77708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Zeroconf Implementation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Discovery Using other Mechanisms/Protocol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JXTA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UpnP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Other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ECF For Plugin Developer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4000" y="1371600"/>
            <a:ext cx="777708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Open and Extensible API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marL="228600" indent="-22860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Provider Architecture for Multiple Protocol Suppor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marL="228600" indent="-22860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Adapter Pattern for Types of Communication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ECF Container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77770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Core ECF Interface:  </a:t>
            </a: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IContainer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Represents session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Adapters for communication:  Icontainer.getAdapter(&lt;interface&gt;);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53800" y="228600"/>
            <a:ext cx="7289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Presence API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685800" y="1482840"/>
            <a:ext cx="7543800" cy="40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1414440"/>
            <a:ext cx="777708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IContainerManager</a:t>
            </a: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 to get all contain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Find containers that implement presence API adap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Use adapter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xample:  </a:t>
            </a: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ShowAllRostersContrib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3800" y="228600"/>
            <a:ext cx="7289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Presence API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1482840"/>
            <a:ext cx="7543800" cy="40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81120" y="1371600"/>
            <a:ext cx="777708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xa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31640" indent="-21564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Courier New"/>
                <a:ea typeface="Arial"/>
              </a:rPr>
              <a:t>ShowSelectedRosterContrib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240" y="255600"/>
            <a:ext cx="7289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Adding Items to Contacts View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0760" y="1371240"/>
            <a:ext cx="777708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Adding IActions to Contact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RosterEntryContribution1</a:t>
            </a: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, </a:t>
            </a: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RosterEntryContribution2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240" y="225000"/>
            <a:ext cx="728964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Drag and Drop Support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77708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org.eclipse.ecf.presence.ui.rosterViewerDropTarge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RosterEntryDropTarge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684360" y="1142640"/>
            <a:ext cx="739296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SGI Services, Extension Points and API 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New providers (impl)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Verdana"/>
              </a:rPr>
              <a:t>Yahoo, Skype, JMS, others (JXTA), etc.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2971800" y="3429000"/>
            <a:ext cx="2971800" cy="210348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228600" y="457200"/>
            <a:ext cx="7275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ECF Extensibility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Adding provider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7777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Trivial Provider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IContainer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Namespac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Agenda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777080" cy="629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Background and Value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Introductory Demo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CF For Plug-in Developer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Demo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CF Extensibility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Demo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API Summary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What’s Next?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9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Conclusion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indent="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indent="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indent="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798F3-69C4-46F3-BBA0-2D4566B9C727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RCP App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77708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Sudoku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Integrated with ECF Buddy List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Summary:  API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77708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http://</a:t>
            </a:r>
            <a:r>
              <a:rPr b="1" lang="en-GB" sz="24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iki.eclipse.org/ECF_API_Doc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Datashare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Presence/IM/Chat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File Transfer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Discovery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VOIP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9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Remote OSGi Services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28240" y="225000"/>
            <a:ext cx="728964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What's Next?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7777080" cy="51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Ganymede Roadmap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http://</a:t>
            </a:r>
            <a:r>
              <a:rPr b="1" lang="en-GB" sz="2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wiki.eclipse.org/ECF_Ganymede_Roadmap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Community Driven Approach:  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More UI Features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VOIP:  Skype, Jingle, Asterisk, SIP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Integration with Mylyn/Other Tools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9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Pending Contributions/Efforts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8000"/>
              </a:lnSpc>
              <a:spcBef>
                <a:spcPts val="451"/>
              </a:spcBef>
              <a:buSzPct val="100000"/>
              <a:buBlip>
                <a:blip r:embed="rId10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Shared Editing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8000"/>
              </a:lnSpc>
              <a:spcBef>
                <a:spcPts val="451"/>
              </a:spcBef>
              <a:buSzPct val="100000"/>
              <a:buBlip>
                <a:blip r:embed="rId1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ShareCode/Java Searching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8000"/>
              </a:lnSpc>
              <a:spcBef>
                <a:spcPts val="451"/>
              </a:spcBef>
              <a:buSzPct val="100000"/>
              <a:buBlip>
                <a:blip r:embed="rId1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Bulletin Board Client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8000"/>
              </a:lnSpc>
              <a:spcBef>
                <a:spcPts val="451"/>
              </a:spcBef>
              <a:buSzPct val="100000"/>
              <a:buBlip>
                <a:blip r:embed="rId1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BugDay Bugs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Conclusion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414080"/>
            <a:ext cx="777708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ECF is a growing project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4c4c4c"/>
                </a:solidFill>
                <a:latin typeface="Verdana"/>
              </a:rPr>
              <a:t>Easily add communications support to your applications</a:t>
            </a:r>
            <a:endParaRPr b="1" lang="en-US" sz="18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4c4c4c"/>
                </a:solidFill>
                <a:latin typeface="Verdana"/>
              </a:rPr>
              <a:t>Many providers</a:t>
            </a:r>
            <a:endParaRPr b="1" lang="en-US" sz="1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Webpag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 u="sng">
                <a:solidFill>
                  <a:srgbClr val="ccccff"/>
                </a:solidFill>
                <a:uFillTx/>
                <a:latin typeface="Verdana"/>
                <a:hlinkClick r:id="rId6"/>
              </a:rPr>
              <a:t>http://</a:t>
            </a:r>
            <a:r>
              <a:rPr b="1" lang="en-GB" sz="1800" spc="-1" strike="noStrike" u="sng">
                <a:solidFill>
                  <a:srgbClr val="ccccff"/>
                </a:solidFill>
                <a:uFillTx/>
                <a:latin typeface="Verdana"/>
                <a:hlinkClick r:id="rId7"/>
              </a:rPr>
              <a:t>www.eclipse.org/ecf</a:t>
            </a:r>
            <a:endParaRPr b="1" lang="en-US" sz="1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Newsgroup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4c4c4c"/>
                </a:solidFill>
                <a:latin typeface="Verdana"/>
              </a:rPr>
              <a:t>eclipse.technology.ecf</a:t>
            </a:r>
            <a:endParaRPr b="1" lang="en-US" sz="1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0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Always look for Contributors!!!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1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 u="sng">
                <a:solidFill>
                  <a:srgbClr val="ccccff"/>
                </a:solidFill>
                <a:uFillTx/>
                <a:latin typeface="Verdana"/>
                <a:hlinkClick r:id="rId12"/>
              </a:rPr>
              <a:t>http://wiki.eclipse.org/BugDay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1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Query bugs for keyword ‘bugday’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Resource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770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CF Project Home Page:  </a:t>
            </a:r>
            <a:r>
              <a:rPr b="1" lang="en-GB" sz="28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http://www.eclipse.org/ecf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CF Plugins (anon CVS):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dev.eclipse.org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/cvsroot/technology/org.eclipse.ecf/examples/plugin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Courier New"/>
              </a:rPr>
              <a:t>org.eclipse.ecf.examples.webinar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Courier New"/>
              </a:rPr>
              <a:t>org.eclipse.ecf.examples.provider.trivial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240" y="326880"/>
            <a:ext cx="728964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Background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00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What is ECF?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To put it simply, a framework to create distributed based applications and tools within Eclips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1CA34-BA9F-4B5C-84BB-54F63A514F31}" type="slidenum">
              <a:t>3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240" y="326880"/>
            <a:ext cx="728964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The Value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00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For Eclipse User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Team Communication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6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IM, Chat, File Sharing, VOIP, etc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Multiple Protocols/Service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6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Google Talk/XMPP, Yahoo, MSN, Skype, etc.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6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Interoperable with other client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772B1-67C0-4CEB-8050-F5FE139FDA6E}" type="slidenum">
              <a:t>4</a:t>
            </a:fld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fill="hold">
                      <p:stCondLst>
                        <p:cond delay="indefinite"/>
                      </p:stCondLst>
                      <p:childTnLst>
                        <p:par>
                          <p:cTn id="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fill="hold">
                      <p:stCondLst>
                        <p:cond delay="indefinite"/>
                      </p:stCondLst>
                      <p:childTnLst>
                        <p:par>
                          <p:cTn id="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240" y="326880"/>
            <a:ext cx="728964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The Value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00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For Plugin Developer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Open API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Presence/IM, File Transfer, Discovery, VOIP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Extensibl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Support for Open (or closed) Services and Protocol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Eclipse, RCP, eRCP, Server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031A6-BFFA-4D52-97F6-BF76232052A1}" type="slidenum">
              <a:t>5</a:t>
            </a:fld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fill="hold">
                      <p:stCondLst>
                        <p:cond delay="indefinite"/>
                      </p:stCondLst>
                      <p:childTnLst>
                        <p:par>
                          <p:cTn id="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684000" y="1142640"/>
            <a:ext cx="518292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Contacts List/IM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Links in Chat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File Transfer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IRC/Group Cha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Chat Bot (KOS-MOS)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Integration with Eclipse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URL sharing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Others:  Mylyn, Debug, Shared Editing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9"/>
          <a:stretch/>
        </p:blipFill>
        <p:spPr>
          <a:xfrm>
            <a:off x="6095880" y="1752480"/>
            <a:ext cx="2735280" cy="37339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228600" y="457200"/>
            <a:ext cx="7275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Contact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2FF3E-4FD2-4A21-8ED9-AAB9316A60B9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7275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Contacts Searching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4360" y="1142640"/>
            <a:ext cx="678312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06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Quick Access to Contact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533520" y="2286000"/>
            <a:ext cx="2330280" cy="32767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4114800" y="2362320"/>
            <a:ext cx="4267080" cy="31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Connect via Hyperlink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4000" y="1371600"/>
            <a:ext cx="777708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Communication Links in Document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Text and Sourc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IM – Direct Connection with User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Chat – Join Group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760320" y="1329840"/>
            <a:ext cx="609768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IM/Chat Feature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marL="341280" indent="-341280">
              <a:lnSpc>
                <a:spcPct val="102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Skype Calling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1219320" y="2590920"/>
            <a:ext cx="5943600" cy="236988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228600" y="457200"/>
            <a:ext cx="7275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Skype &amp; VOIP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x</cp:lastModifiedBy>
  <cp:revision>0</cp:revision>
  <dc:subject/>
  <dc:title>RCP Applications</dc:title>
</cp:coreProperties>
</file>