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72458"/>
        <c:axId val="72022164"/>
      </c:barChart>
      <c:catAx>
        <c:axId val="51872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2164"/>
        <c:crosses val="autoZero"/>
        <c:auto val="1"/>
        <c:lblAlgn val="ctr"/>
        <c:lblOffset val="100"/>
        <c:noMultiLvlLbl val="0"/>
      </c:catAx>
      <c:valAx>
        <c:axId val="72022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72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047-3ECE-429B-A4B0-60902300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45F2-1567-4A50-8F5C-930FD624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C7C-5456-40F6-A61C-B05506A8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BD9-904D-4BAB-8443-80D1228D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851-2A63-4457-A20A-4609D63B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F3F-D7F1-415F-B1E5-2716C1DD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BB2-0470-46BD-9D36-C7D2CAA3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09BC-DC0A-485E-BA36-6D40C9ABD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71E-8A6D-4DA7-B61A-42414F31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1A0-71D2-4341-BC44-9D922D1A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87E-5C87-416D-B860-624A0706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68F-4098-4D96-A9FD-66523B79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74AE1-8D64-4320-B0AF-F2982A63DC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