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46093"/>
        <c:axId val="14453093"/>
      </c:barChart>
      <c:catAx>
        <c:axId val="70146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3093"/>
        <c:crosses val="autoZero"/>
        <c:auto val="1"/>
        <c:lblAlgn val="ctr"/>
        <c:lblOffset val="100"/>
        <c:noMultiLvlLbl val="0"/>
      </c:catAx>
      <c:valAx>
        <c:axId val="14453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46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5C6-E9F7-4291-B227-B782330D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C9A-751E-4873-ADBC-5EBC049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18D-0158-461B-9AE6-1313A022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651-F9F6-47E2-85BE-18124D26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B4D-8DD5-4AE9-806C-6193907D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F7A-D739-49EE-9F07-8A469D5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30-942C-4E0D-894D-FECD773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94E-05E2-4E3F-BDD7-C07956FC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0A2-C142-4F83-B79D-B6EAA67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B4C-FA1A-4E00-8BE0-A580F76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A0D-F46D-4C2C-A32B-B0C65A8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224-C06F-4568-8EB2-EA7FCF7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25E6-5668-41E6-B57E-8FB97D268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