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F26-B9FC-49FE-86FF-631E89B4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A30-1AE2-4DDE-B375-63BB0273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8C8-803C-4C6F-8E36-7AB0B3C6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9BB-EB37-46EF-981B-D7A32EF5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885-FB6B-4A30-8F92-8302C1B4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C0E-DD67-4491-8CA7-031BCCF8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A8A-1913-4054-A0E9-7D6EBC6D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22E-6C9A-4870-B82C-74D71F90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B77-94B8-4A03-9B08-24E3670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999-C7A3-4F99-B14D-66A56A23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0E2-E3B1-4F3D-9C3A-C7789C3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ED7-151E-4DC7-AF13-93830D0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7CB6-8725-4E64-8101-90F78DF0B41F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dding a Bulle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nd the bullet slid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text for first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add_paragraph() for subsequent bul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re is a lot of tex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76800"/>
            <a:ext cx="690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Here is some text in a text box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4:14:16Z</dcterms:created>
  <dc:creator/>
  <dc:description/>
  <dc:language>en-US</dc:language>
  <cp:lastModifiedBy/>
  <cp:revision>0</cp:revision>
  <dc:subject/>
  <dc:title/>
</cp:coreProperties>
</file>