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4F9EB1-7967-4033-BC43-87B0D4CA0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81240" y="685800"/>
            <a:ext cx="6095520" cy="3428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6160" y="4343400"/>
            <a:ext cx="5485680" cy="411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is a slide no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7A84-D236-4835-B1A0-8E050AFB5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A9F7-999F-4AA2-86C4-93709EE49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A16D-859F-4D67-9B56-8CE89B7C6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FD78-83B9-4A7C-A308-AA8CEE15B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FE05-572C-4242-A1C0-60AA372E3A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489C2-6727-47EF-9741-EAC9DB3AAE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EA2B-7B2B-4246-97F8-5789403317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901B-0D51-4AC1-8A88-E5C34EE54C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AC22-9AA7-42EB-BA78-041C764DF7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7B9A-4288-4340-9DCB-C9F3E56CD1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BAF0-22E6-4571-BE70-19C637E1E5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9CF5-95FE-474A-AB53-69DB60CEB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CAAF-BD63-4A41-A54C-A3A57CBF7B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4AE2-54F9-4DB3-B3F3-F8E2E5B098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5236-8ED7-48D3-B317-5B14345E21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0B2DB-F17E-4F77-A1AD-C88545826A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E9E1-0709-4FD3-B553-C24DC89F47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024D-B506-4FFB-8404-31BAD3A3C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2B27-A816-4283-ABB7-1508C2495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529A-510B-4BE4-9B3C-6DBEA590F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7AE9-0A8C-44D7-999A-F9A42AD08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CF37-5AB3-49DD-B55B-4A0B01E5D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64D4-5E85-456E-B94C-1F4BC813E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7531-D1EA-4E60-BE6A-52FCCEAA5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854F4CD-A4C5-4294-AFC9-740EC21C1462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85A16BB-D20A-4A4F-8A0F-6B7CF494EB61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1760" y="744480"/>
            <a:ext cx="8519760" cy="2052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5200" spc="-1" strike="noStrike">
                <a:solidFill>
                  <a:schemeClr val="dk1"/>
                </a:solidFill>
                <a:latin typeface="Arial"/>
                <a:ea typeface="Arial"/>
              </a:rPr>
              <a:t>Testing multiple languag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5000"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4-05-09T15:49:2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