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EF1-F21C-4CEC-8A14-4AECB07C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EC8-AC9E-4695-BBCA-1FA84D8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460-DF14-47EE-ACF1-4A6DED32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A98-40E1-4BCF-B0B0-E0421AE1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51E-ABF1-4477-951E-00393B7F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B1C-F361-4FD1-8694-3301C63E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059-B64A-47D9-91A8-4568193D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DEA-ABBD-4B3B-94C3-65F97343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D1E-5678-470A-B2DE-44D38DC5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E87-9C9D-4ED6-A1A7-C4943ECE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CBA-002E-4B52-B4B5-E073DC1C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6F4-8418-4D46-A3D6-BF59C1A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68A4-FD37-4795-9213-CDC7185AE8AB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dding a Bulle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ind the bullet slid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text for first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add_paragraph() for subsequent bul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re is a lot of tex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76800"/>
            <a:ext cx="6900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Here is some text in a text box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4:14:16Z</dcterms:created>
  <dc:creator/>
  <dc:description/>
  <dc:language>en-US</dc:language>
  <cp:lastModifiedBy/>
  <cp:revision>0</cp:revision>
  <dc:subject/>
  <dc:title/>
</cp:coreProperties>
</file>