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92B351-D846-4A00-92A4-7AE26ED20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81240" y="685800"/>
            <a:ext cx="6095520" cy="3428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6160" y="4343400"/>
            <a:ext cx="5485680" cy="411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is a slide no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02F0-1D61-48A3-9724-A46208B5C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4D66-4A8D-4E26-8CBA-B4BEA8B22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78FC-070C-48AD-908D-ABBB459BD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176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248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320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70F9-7E4B-40A6-B87F-67BB07756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C375B-ADD2-40E2-994D-B53E527BFD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0CB9-DE12-4BE7-BDA3-2D0BCA4402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5EBB-5BD5-451B-815D-D0EE6300E2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7516C-C3F8-48D6-AAEA-E1939171AD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8F1F-068B-4390-A346-58E33788B2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1976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0F18-206B-40FB-BBCF-F4A8460C24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83A2-F3B2-4D80-92C4-8DC51FE3DE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2AF9-ECCE-4EA3-8DC6-3BCF4E42C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7EF7-72AF-4D29-BF10-CE138E847C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CA15-F41B-4F5B-BFDD-0687178B2B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FB5E-F2F0-4BDA-B78C-20956257AA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6980-7ED4-42E3-A7A9-8F28501DC0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1176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248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320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4E3D-C922-408B-978C-FD8BBD2A81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3ABD-8EAB-4389-8B7F-41D526212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405F-345D-43B3-8738-16E5A4815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54DF-2A69-4DD5-ABAF-96B9AE7C5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1976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2E2E-E395-431B-A94E-271CD4D09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CDD5-773A-4E44-8E42-221C404E6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1BB4-137B-42EC-8454-5E8DE7557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0C5D-D578-4FEF-87A7-FEA3B8DC7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19760" cy="5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72600" y="4663080"/>
            <a:ext cx="547920" cy="39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594267A-D6CC-46E6-95C9-56A430D63C91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19760" cy="5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2600" y="4663080"/>
            <a:ext cx="547920" cy="39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515507B-A667-48E5-B66A-19149EBA5B11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1760" y="744480"/>
            <a:ext cx="8519760" cy="2052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5200" spc="-1" strike="noStrike">
                <a:solidFill>
                  <a:schemeClr val="dk1"/>
                </a:solidFill>
                <a:latin typeface="Arial"/>
                <a:ea typeface="Arial"/>
              </a:rPr>
              <a:t>Testing multiple languag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5000"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"Todos los seres humanos nacen libres e iguales en dignidad y derechos y, dotados como están de razón y conciencia, deben comportarse fraternalmente los unos con los otros. Todos los seres humanos nacen libres e iguales en dignidad y derechos y, dotados como están de razón y conciencia, deben comportarse fraternalmente los unos con los otro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"Todos los seres humanos nacen libres e iguales en dignidad y derechos y, dotados como están de razón y conciencia, deben comportarse fraternalmente los unos con los otros. Todos los seres humanos nacen libres e iguales en dignidad y derechos y, dotados como están de razón y conciencia, deben comportarse fraternalmente los unos con los otro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4-05-09T15:49:2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