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A02D-15EF-4E9F-9E19-182B6BBE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BCBA-725E-420F-AE80-15399FC0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648-BFA4-4678-A45C-8BF7B63B7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BF54-7D64-495B-BFCA-80642B740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2D1-3BF7-4E98-B045-63E3C7312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E25B-A5C6-40DA-9237-D446A2598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6984-2260-4367-8ED4-9C59D5A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592C-190B-4FF2-B88B-72A4C9625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9D9-8534-48C7-9A5C-39DBDD56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4682-02BF-4744-9763-B178D0FF0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B61C-A86A-4203-A7E6-A53F9FEC1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827D-31B0-483C-BC41-520CAD6E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F249-E96E-469D-9197-D23EE88BD365}" type="slidenum">
              <a:rPr b="0" lang="ko-KR" sz="1200" spc="-1" strike="noStrike">
                <a:solidFill>
                  <a:srgbClr val="898989"/>
                </a:solidFill>
                <a:latin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맑은 고딕"/>
              </a:rPr>
              <a:t>PPT VBA TEST</a:t>
            </a:r>
            <a:endParaRPr b="0" lang="en-US" sz="6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실행 단추: 앞으로 또는 다음으로 이동 3"/>
          <p:cNvSpPr/>
          <p:nvPr/>
        </p:nvSpPr>
        <p:spPr>
          <a:xfrm>
            <a:off x="4757760" y="4062240"/>
            <a:ext cx="2665440" cy="1352880"/>
          </a:xfrm>
          <a:custGeom>
            <a:avLst/>
            <a:gdLst>
              <a:gd name="textAreaLeft" fmla="*/ 87480 w 2665440"/>
              <a:gd name="textAreaRight" fmla="*/ 2577960 w 2665440"/>
              <a:gd name="textAreaTop" fmla="*/ 87480 h 1352880"/>
              <a:gd name="textAreaBottom" fmla="*/ 1265400 h 1352880"/>
            </a:gdLst>
            <a:ahLst/>
            <a:rect l="textAreaLeft" t="textAreaTop" r="textAreaRight" b="textAreaBottom"/>
            <a:pathLst>
              <a:path w="42551" h="21600">
                <a:moveTo>
                  <a:pt x="0" y="0"/>
                </a:moveTo>
                <a:lnTo>
                  <a:pt x="42551" y="0"/>
                </a:lnTo>
                <a:lnTo>
                  <a:pt x="42551" y="21600"/>
                </a:lnTo>
                <a:lnTo>
                  <a:pt x="0" y="21600"/>
                </a:lnTo>
                <a:close/>
              </a:path>
              <a:path fill="lightenLess" w="42551" h="21600">
                <a:moveTo>
                  <a:pt x="0" y="0"/>
                </a:moveTo>
                <a:lnTo>
                  <a:pt x="42551" y="0"/>
                </a:lnTo>
                <a:lnTo>
                  <a:pt x="41151" y="1400"/>
                </a:lnTo>
                <a:lnTo>
                  <a:pt x="1400" y="1400"/>
                </a:lnTo>
                <a:close/>
              </a:path>
              <a:path fill="darken" w="42551" h="21600">
                <a:moveTo>
                  <a:pt x="42551" y="0"/>
                </a:moveTo>
                <a:lnTo>
                  <a:pt x="42551" y="21600"/>
                </a:lnTo>
                <a:lnTo>
                  <a:pt x="41151" y="20200"/>
                </a:lnTo>
                <a:lnTo>
                  <a:pt x="41151" y="1400"/>
                </a:lnTo>
                <a:close/>
              </a:path>
              <a:path fill="darkenLess" w="42551" h="21600">
                <a:moveTo>
                  <a:pt x="425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151" y="20200"/>
                </a:lnTo>
                <a:close/>
              </a:path>
              <a:path fill="lighten" w="425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551" h="21600">
                <a:moveTo>
                  <a:pt x="14269" y="3794"/>
                </a:moveTo>
                <a:lnTo>
                  <a:pt x="28282" y="10800"/>
                </a:lnTo>
                <a:lnTo>
                  <a:pt x="14269" y="17806"/>
                </a:lnTo>
                <a:close/>
              </a:path>
            </a:pathLst>
          </a:cu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05T00:45:36Z</dcterms:created>
  <dc:creator>김 기정</dc:creator>
  <dc:description/>
  <dc:language>en-US</dc:language>
  <cp:lastModifiedBy>김 기정</cp:lastModifiedBy>
  <dcterms:modified xsi:type="dcterms:W3CDTF">2021-11-05T01:03:23Z</dcterms:modified>
  <cp:revision>7</cp:revision>
  <dc:subject/>
  <dc:title>PPT VBA TEST</dc:title>
</cp:coreProperties>
</file>