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F03-7060-4915-B374-B5120AA9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CB8B-DA1C-42B2-B0A0-0C6285E0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3B10-0B4F-4FA0-976D-A2218FD4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E4FA-0544-4534-85C6-6D4582A0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C5F-75CC-4437-AFB3-FB8418E6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3F23-8D5E-46E7-A8A7-FCD1E6DD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EC4D-44FD-430B-A124-78507C00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74B-749A-4AF4-9949-5E98EFF0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1FC-DD56-4093-8565-BC0CE308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2D3-C0E5-47C2-9D3E-5CFA6C48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FC8-CBC4-4652-B9BC-6437F2B4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A47-6585-47C8-A306-EEF79667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356160"/>
            <a:ext cx="289404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8707-4BCE-4171-A48E-7D9E8985D3D0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dding a Bulle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ind the bullet slid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se _TextFrame.text for first 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88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se _TextFrame.add_paragraph() for subsequent bull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ere is a lot of tex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76800"/>
            <a:ext cx="69008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Here is some text in a text box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4:14:16Z</dcterms:created>
  <dc:creator/>
  <dc:description/>
  <dc:language>en-US</dc:language>
  <cp:lastModifiedBy/>
  <cp:revision>0</cp:revision>
  <dc:subject/>
  <dc:title/>
</cp:coreProperties>
</file>