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86A204-CE6B-418F-8380-637AAD4C1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81240" y="685800"/>
            <a:ext cx="6095520" cy="3428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6160" y="4343400"/>
            <a:ext cx="5485680" cy="4114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is a slide no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2B1E5-384E-45E5-B6FE-370925A5CC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AE9AD-CDCE-490B-93D0-C848E8070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9801-7301-43FD-BF9A-0C27E67EB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64D6-B07D-4A67-9455-B8D59F762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5E785-F119-4EB1-B491-78F27E3758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C050-7248-446C-AE38-1026B1EAF7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B7924-DFD8-4E7E-B83D-951866432D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D42B-8A23-47C0-BBD7-14778E403C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83042-EC2E-4BA8-A6A4-17F174DACD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03507-EA8F-47C2-A325-ED89FDF9F6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E861-8CAF-46E2-9AA3-2E9967A358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518A-00D4-4A7D-B209-B7F77CCD5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9D04-D111-4E3A-904B-75C0219CF6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4C49-A586-46F0-BDAB-C7E1518B3F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118B0-533D-4E6D-ADF9-7AABA86B39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DBB3-CE83-4A6A-AD38-608826DB9A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248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3200" y="115236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1176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248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3200" y="2936520"/>
            <a:ext cx="274320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4B8E-A4D7-4433-8D7C-F847C072D2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DA82-3A37-43A8-9213-7228A16BA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A683-E73D-4925-A19C-DD5FA08F74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59DA0-FB7A-4313-9F83-838711825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1760" y="444960"/>
            <a:ext cx="851976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D1F9-BC81-4530-A017-2745553F7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9ECD-628E-4D08-B4B7-EBFE74662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120" y="293652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5BEA-5D39-4E54-98C0-8C3B8F56D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1760" y="418320"/>
            <a:ext cx="85197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176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120" y="1152360"/>
            <a:ext cx="415728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1760" y="2936520"/>
            <a:ext cx="8519760" cy="16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3428-308D-48A0-B8AE-901CE93D1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A966F41-8E14-48CE-852C-20EB04946E44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1760" y="444960"/>
            <a:ext cx="8519760" cy="5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7920" cy="392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" sz="1000" spc="-1" strike="noStrike">
                <a:solidFill>
                  <a:schemeClr val="dk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677D838-3C77-498A-B4C4-00A9CFFE781F}" type="slidenum">
              <a:rPr b="0" lang="en" sz="1000" spc="-1" strike="noStrike">
                <a:solidFill>
                  <a:schemeClr val="dk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1760" y="744480"/>
            <a:ext cx="8519760" cy="2052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" sz="5200" spc="-1" strike="noStrike">
                <a:solidFill>
                  <a:schemeClr val="dk1"/>
                </a:solidFill>
                <a:latin typeface="Arial"/>
                <a:ea typeface="Arial"/>
              </a:rPr>
              <a:t>Testing multiple languag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85000"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 All human beings are born free and equal in dignity and rights. They are endowed with reason and conscience and should act towards one another in a spirit of brother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11760" y="1152360"/>
            <a:ext cx="8519760" cy="34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en" sz="1800" spc="-1" strike="noStrike">
                <a:solidFill>
                  <a:schemeClr val="dk2"/>
                </a:solidFill>
                <a:latin typeface="Arial"/>
                <a:ea typeface="Arial"/>
              </a:rPr>
              <a:t>"Todos los seres humanos nacen libres e iguales en dignidad y derechos y, dotados como están de razón y conciencia, deben comportarse fraternalmente los unos con los otros. Todos los seres humanos nacen libres e iguales en dignidad y derechos y, dotados como están de razón y conciencia, deben comportarse fraternalmente los unos con los otros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imple Light">
  <a:themeElements>
    <a:clrScheme name="Simple Light">
      <a:dk1>
        <a:srgbClr val="000000"/>
      </a:dk1>
      <a:lt1>
        <a:srgbClr val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95959"/>
      </a:dk2>
      <a:lt2>
        <a:srgbClr val="eeeeee"/>
      </a:lt2>
      <a:accent1>
        <a:srgbClr val="4285f4"/>
      </a:accent1>
      <a:accent2>
        <a:srgbClr val="212121"/>
      </a:accent2>
      <a:accent3>
        <a:srgbClr val="78909c"/>
      </a:accent3>
      <a:accent4>
        <a:srgbClr val="ffab40"/>
      </a:accent4>
      <a:accent5>
        <a:srgbClr val="0097a7"/>
      </a:accent5>
      <a:accent6>
        <a:srgbClr val="eeff41"/>
      </a:accent6>
      <a:hlink>
        <a:srgbClr val="0097a7"/>
      </a:hlink>
      <a:folHlink>
        <a:srgbClr val="0097a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4-05-09T15:49:2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