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D2C98D-F293-4229-81C2-09026DA9B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81240" y="685800"/>
            <a:ext cx="6095520" cy="3428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6160" y="4343400"/>
            <a:ext cx="5485680" cy="411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is a slide no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4EFC-C10F-4777-94D5-7164C8053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E22C-CDAC-4FCB-9D6D-501BF8866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9117-EFC7-412E-BFCF-EE1A7B60A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5915-1037-4B98-8B62-CCDF1C0FD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4FB5-4534-46E8-9793-725D0D5755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C56E-466E-403C-85CC-8C67502B41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5692-AEDE-455F-B996-A181695DD8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801F-F38A-4345-8EC0-C51FDF5390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D27F-8432-42D2-833D-8E9DAE573E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974C-D46A-4EB1-905D-4E8066461A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9468C-B78D-43CF-8098-D556BE619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8891-E152-45ED-84C1-E74CEF211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65C8-6653-4975-8B3E-41E4F99F94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BDD8-F8CE-4902-A9BD-70CB17C01F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120D-E2FB-4296-BC0F-9BAE6727A9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5F29-DE77-4326-9D60-C63B3AF625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43EF-96F2-4966-8033-95E87F126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12EF-DB65-4874-95BE-8DB3160B0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4512-EF08-4FB9-BF7C-441A89DBA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202F-817C-4128-8FDD-FE4E3D704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9E9C-DE94-42AC-B404-41687C20A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1353-A12F-460C-AB50-A861108CB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8C12-5FBB-47AF-A4C3-35ED6087E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6423-EFBB-4038-BE2A-C162000B2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45993AB-7BA4-4483-887A-470ACC985D05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19303DF-5F12-4854-93DA-510705424FF7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19760" cy="2052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5200" spc="-1" strike="noStrike">
                <a:solidFill>
                  <a:schemeClr val="dk1"/>
                </a:solidFill>
                <a:latin typeface="Arial"/>
                <a:ea typeface="Arial"/>
              </a:rPr>
              <a:t>Testing multiple langua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5000"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4-05-09T15:49:2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