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134-7AF0-4263-B5EF-361A1B23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FCB-240C-4A61-AD57-624A5DCB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0C7-BF3B-47FC-9FA9-DD9D21C1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BEA-F912-4998-B746-C0370D2E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6D8-43A3-4A9B-916F-EB8248FD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193-486F-411D-9585-47097ECD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93E-1B3E-4492-B38D-9B2934C3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0BA-E078-4A06-855C-001EC4A3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4B5-5B01-4CCF-84AB-E47BBCE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29B-4D70-4296-8FEA-BC87D3D9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A17-3326-45BE-A594-32B140AE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2DE-B294-4D11-8B69-321AFCB3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2B78-B8F5-4656-AE59-B60243BA4BB8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dding a Bulle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ind the bullet slid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text for first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add_paragraph() for subsequent bul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ere is a lot of tex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76800"/>
            <a:ext cx="6900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Here is some text in a text box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4:14:16Z</dcterms:created>
  <dc:creator/>
  <dc:description/>
  <dc:language>en-US</dc:language>
  <cp:lastModifiedBy/>
  <cp:revision>0</cp:revision>
  <dc:subject/>
  <dc:title/>
</cp:coreProperties>
</file>