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D18470-0A79-4D7A-B275-E608516CD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381240" y="685800"/>
            <a:ext cx="6095520" cy="3428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6160" y="4343400"/>
            <a:ext cx="5485680" cy="411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is a slide not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CE19F-BC41-4AD4-86D3-291156814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851976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1760" y="2936520"/>
            <a:ext cx="851976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65CD1-ADE2-43BD-B58C-2F57AC2F77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176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712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5A513-CF29-48BC-979A-BFC5650993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2480" y="115236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3200" y="115236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1760" y="293652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2480" y="293652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3200" y="293652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84B5D-DB1E-42F0-B6AC-D008B952DA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1A13A-8E76-46AF-BA15-E5A0E20876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60FFC-5294-4B30-9D46-B39B78F02D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60D0A-CE1B-4CF8-9A07-97E30F9F83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F7A82-2674-4517-B1A1-56F523F1CE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3193E-1557-4516-94DB-6489D0CF66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11760" y="444960"/>
            <a:ext cx="851976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4239D-C543-47F7-B60F-7A06FEFBFE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1176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E4DC1-4323-457A-8A12-A8B08A9494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46B3A-3E02-4F2A-A8D8-511DA032B7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712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298F2-4497-4191-BDDC-AFAB338CFD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11760" y="2936520"/>
            <a:ext cx="851976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6DC61-2BE8-445F-95B7-FE9C3A283A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851976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760" y="2936520"/>
            <a:ext cx="851976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4B6D5-6194-4820-9ACF-D316A1EE45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176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712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4EA9F-7F2E-4BAC-96C3-5C75C131A0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2480" y="115236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3200" y="115236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11760" y="293652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2480" y="293652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3200" y="293652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2AE64-2B7C-4B16-9688-BDEE179142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41B7F-5D3A-4E52-AE6A-9AFBE1252E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92970-3210-44C7-BE4F-5891085211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BC039-FA0C-4DC4-9553-02B8A39AC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1760" y="444960"/>
            <a:ext cx="851976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085E8-7F45-4E80-9B71-5E3BA35936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176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FEF1C-EEE1-4881-B255-547AC9A89D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712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63F2A-16BD-4232-907B-B7AF5181BA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1760" y="2936520"/>
            <a:ext cx="851976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9EBD1-6EAD-4AB1-9ADD-3B6299B8A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19760" cy="5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472600" y="4663080"/>
            <a:ext cx="547920" cy="39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" sz="1000" spc="-1" strike="noStrike">
                <a:solidFill>
                  <a:schemeClr val="dk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62D3457A-611A-4A4D-9758-BB4AC7ED46C9}" type="slidenum">
              <a:rPr b="0" lang="en" sz="1000" spc="-1" strike="noStrike">
                <a:solidFill>
                  <a:schemeClr val="dk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19760" cy="5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472600" y="4663080"/>
            <a:ext cx="547920" cy="39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" sz="1000" spc="-1" strike="noStrike">
                <a:solidFill>
                  <a:schemeClr val="dk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7263AC3-45AC-4430-A0C4-96319EC5CAE7}" type="slidenum">
              <a:rPr b="0" lang="en" sz="1000" spc="-1" strike="noStrike">
                <a:solidFill>
                  <a:schemeClr val="dk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1760" y="744480"/>
            <a:ext cx="8519760" cy="2052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5200" spc="-1" strike="noStrike">
                <a:solidFill>
                  <a:schemeClr val="dk1"/>
                </a:solidFill>
                <a:latin typeface="Arial"/>
                <a:ea typeface="Arial"/>
              </a:rPr>
              <a:t>Testing multiple language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85000"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en" sz="1800" spc="-1" strike="noStrike">
                <a:solidFill>
                  <a:schemeClr val="dk2"/>
                </a:solidFill>
                <a:latin typeface="Arial"/>
                <a:ea typeface="Arial"/>
              </a:rPr>
              <a:t>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en" sz="1800" spc="-1" strike="noStrike">
                <a:solidFill>
                  <a:schemeClr val="dk2"/>
                </a:solidFill>
                <a:latin typeface="Arial"/>
                <a:ea typeface="Arial"/>
              </a:rPr>
              <a:t>All human beings are born free and equal in dignity and rights. They are endowed with reason and conscience and should act towards one another in a spirit of brotherhood. "Todos los seres humanos nacen libres e iguales en dignidad y derechos y, dotados como están de razón y conciencia, deben comportarse fraternalmente los unos con los otros. Todos los seres humanos nacen libres e iguales en dignidad y derechos y, dotados como están de razón y conciencia, deben comportarse fraternalmente los unos con los otros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en" sz="1800" spc="-1" strike="noStrike">
                <a:solidFill>
                  <a:schemeClr val="dk2"/>
                </a:solidFill>
                <a:latin typeface="Arial"/>
                <a:ea typeface="Arial"/>
              </a:rPr>
              <a:t>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en" sz="1800" spc="-1" strike="noStrike">
                <a:solidFill>
                  <a:schemeClr val="dk2"/>
                </a:solidFill>
                <a:latin typeface="Arial"/>
                <a:ea typeface="Arial"/>
              </a:rPr>
              <a:t>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en" sz="1800" spc="-1" strike="noStrike">
                <a:solidFill>
                  <a:schemeClr val="dk2"/>
                </a:solidFill>
                <a:latin typeface="Arial"/>
                <a:ea typeface="Arial"/>
              </a:rPr>
              <a:t>"Todos los seres humanos nacen libres e iguales en dignidad y derechos y, dotados como están de razón y conciencia, deben comportarse fraternalmente los unos con los otros. Todos los seres humanos nacen libres e iguales en dignidad y derechos y, dotados como están de razón y conciencia, deben comportarse fraternalmente los unos con los otros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imple Light">
  <a:themeElements>
    <a:clrScheme name="Simple Light">
      <a:dk1>
        <a:srgbClr val="000000"/>
      </a:dk1>
      <a:lt1>
        <a:srgbClr val="ffffff"/>
      </a:lt1>
      <a:dk2>
        <a:srgbClr val="595959"/>
      </a:dk2>
      <a:lt2>
        <a:srgbClr val="eeeeee"/>
      </a:lt2>
      <a:accent1>
        <a:srgbClr val="4285f4"/>
      </a:accent1>
      <a:accent2>
        <a:srgbClr val="212121"/>
      </a:accent2>
      <a:accent3>
        <a:srgbClr val="78909c"/>
      </a:accent3>
      <a:accent4>
        <a:srgbClr val="ffab40"/>
      </a:accent4>
      <a:accent5>
        <a:srgbClr val="0097a7"/>
      </a:accent5>
      <a:accent6>
        <a:srgbClr val="eeff41"/>
      </a:accent6>
      <a:hlink>
        <a:srgbClr val="0097a7"/>
      </a:hlink>
      <a:folHlink>
        <a:srgbClr val="0097a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imple Light">
  <a:themeElements>
    <a:clrScheme name="Simple Light">
      <a:dk1>
        <a:srgbClr val="000000"/>
      </a:dk1>
      <a:lt1>
        <a:srgbClr val="ffffff"/>
      </a:lt1>
      <a:dk2>
        <a:srgbClr val="595959"/>
      </a:dk2>
      <a:lt2>
        <a:srgbClr val="eeeeee"/>
      </a:lt2>
      <a:accent1>
        <a:srgbClr val="4285f4"/>
      </a:accent1>
      <a:accent2>
        <a:srgbClr val="212121"/>
      </a:accent2>
      <a:accent3>
        <a:srgbClr val="78909c"/>
      </a:accent3>
      <a:accent4>
        <a:srgbClr val="ffab40"/>
      </a:accent4>
      <a:accent5>
        <a:srgbClr val="0097a7"/>
      </a:accent5>
      <a:accent6>
        <a:srgbClr val="eeff41"/>
      </a:accent6>
      <a:hlink>
        <a:srgbClr val="0097a7"/>
      </a:hlink>
      <a:folHlink>
        <a:srgbClr val="0097a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595959"/>
      </a:dk2>
      <a:lt2>
        <a:srgbClr val="eeeeee"/>
      </a:lt2>
      <a:accent1>
        <a:srgbClr val="4285f4"/>
      </a:accent1>
      <a:accent2>
        <a:srgbClr val="212121"/>
      </a:accent2>
      <a:accent3>
        <a:srgbClr val="78909c"/>
      </a:accent3>
      <a:accent4>
        <a:srgbClr val="ffab40"/>
      </a:accent4>
      <a:accent5>
        <a:srgbClr val="0097a7"/>
      </a:accent5>
      <a:accent6>
        <a:srgbClr val="eeff41"/>
      </a:accent6>
      <a:hlink>
        <a:srgbClr val="0097a7"/>
      </a:hlink>
      <a:folHlink>
        <a:srgbClr val="0097a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24-05-09T15:49:2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