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F79-F473-4BE2-AEDF-287EC0BF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B22-6448-4914-8DEB-0841B2E2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604-CB41-4737-B515-FF449376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EF1-92C1-4565-8B4D-592C678F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773-54B1-41A9-99A9-D4BF0E0C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F2F-6D54-4243-83D2-03783014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4AC-8102-4974-B493-A1D64200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DDE-42B5-4D53-B39A-D7DB2001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773-E9A4-4192-B2C2-8AEFE8C7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AD4-6B4E-4DC2-8C11-F55AE64F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886-33C6-4670-8E0A-07E1EA86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900-37F1-4353-9624-8B21444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FC64-02D0-430D-B419-AD001904504F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dding a Bulle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ind the bullet slid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e _TextFrame.text for first 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e _TextFrame.add_paragraph() for subsequent bul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ere is a lot of tex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76800"/>
            <a:ext cx="6900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Here is some text in a text box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4:14:16Z</dcterms:created>
  <dc:creator/>
  <dc:description/>
  <dc:language>en-US</dc:language>
  <cp:lastModifiedBy/>
  <cp:revision>0</cp:revision>
  <dc:subject/>
  <dc:title/>
</cp:coreProperties>
</file>