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3"/>
          </p:nvPr>
        </p:nvSpPr>
        <p:spPr>
          <a:xfrm>
            <a:off x="414324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4400" cy="35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5600" cy="4318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5"/>
          </p:nvPr>
        </p:nvSpPr>
        <p:spPr>
          <a:xfrm>
            <a:off x="414324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271558-54A2-46A4-B2ED-04B085B81658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17B5F-71C5-4BB4-8B7A-3A33CD7900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92367-0210-4BA9-B4AE-C3E57E17FF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87CC1-AC16-42F7-AD5A-6DADA4F87E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DDD9A-1B64-4988-951C-D278641B07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F40DF-8B19-45BC-8988-002AE260D51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21582-5FD9-496B-86E5-26656195918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FE2B9-2B18-4BBA-AD19-25F3E047AD4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B1B40-CF3B-4C95-B77F-ED56E6DBF13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B8510-6070-4B61-8F5D-56AEFD89880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F73B3-089D-46D6-8C56-B80EC85590C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B4263-2ECE-42BD-B4BD-D539E0F4BD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FEFBC-7B4D-403C-9A94-534A23F907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BBF8D-A9BD-48DA-ADE9-9C3BC477BF3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B3AE9-46B1-4F35-A4AE-81E1C2C99B3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8221D-16FA-43AA-A151-E3B5AEAFF04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A8F6A-85EA-40BB-94CA-988C57DBB3A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BC65F-AEEC-442E-8E01-E86A8CE01A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FC91E-8758-4CA4-9E3D-D5C76A0D28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7D58D-F7BF-4BE2-88F4-5E6D281160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4D157-0C92-40B6-A080-790764F72E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E7A4E-92B9-4C0F-B0E5-9D5F62AE67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1D006-DF28-414F-A3AD-1570966CAB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D716D-750A-40BC-8C8D-AADD9137FD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E9A1D-B8DB-423D-891D-C68E938250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9803" r="0" b="23406"/>
          <a:stretch/>
        </p:blipFill>
        <p:spPr>
          <a:xfrm>
            <a:off x="7451640" y="368280"/>
            <a:ext cx="1692360" cy="792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2323dc"/>
                </a:solidFill>
                <a:latin typeface="Verdana"/>
              </a:rPr>
              <a:t>Click to edit the title text forma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698400" indent="-2332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3" name="" descr=""/>
          <p:cNvPicPr/>
          <p:nvPr/>
        </p:nvPicPr>
        <p:blipFill>
          <a:blip r:embed="rId10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54080" y="6458040"/>
            <a:ext cx="657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DRAFT 2007 Scott Lewis, BEA Systems; Chris Aniszczyk, IBM ; Made available under the Eclipse Public License v 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911640" y="6457680"/>
            <a:ext cx="2117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A9095A-35BA-47E6-B2E1-B36A8198A00C}" type="slidenum"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64000" cy="3564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3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24560" y="64990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2002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3920" y="6226200"/>
            <a:ext cx="4114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26880" indent="-3268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Confidential 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sldNum" idx="2"/>
          </p:nvPr>
        </p:nvSpPr>
        <p:spPr>
          <a:xfrm>
            <a:off x="6883560" y="254160"/>
            <a:ext cx="211752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CFD137-B3CC-4D57-84F9-8A4CDFB15A1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280" y="6286680"/>
            <a:ext cx="6255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July 31, 200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137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3328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iki.eclipse.org/ECF_API_Docs" TargetMode="External"/><Relationship Id="rId3" Type="http://schemas.openxmlformats.org/officeDocument/2006/relationships/hyperlink" Target="http://wiki.eclipse.org/ECF_API_Docs" TargetMode="External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hyperlink" Target="http://wiki.eclipse.org/ECF_Ganymede_Roadmap" TargetMode="External"/><Relationship Id="rId4" Type="http://schemas.openxmlformats.org/officeDocument/2006/relationships/hyperlink" Target="http://wiki.eclipse.org/ECF_Ganymede_Roadmap" TargetMode="External"/><Relationship Id="rId5" Type="http://schemas.openxmlformats.org/officeDocument/2006/relationships/image" Target="../media/image11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2.png"/><Relationship Id="rId5" Type="http://schemas.openxmlformats.org/officeDocument/2006/relationships/image" Target="../media/image19.png"/><Relationship Id="rId6" Type="http://schemas.openxmlformats.org/officeDocument/2006/relationships/hyperlink" Target="http://www.eclipse.org/ecf" TargetMode="External"/><Relationship Id="rId7" Type="http://schemas.openxmlformats.org/officeDocument/2006/relationships/hyperlink" Target="http://www.eclipse.org/ecf" TargetMode="External"/><Relationship Id="rId8" Type="http://schemas.openxmlformats.org/officeDocument/2006/relationships/image" Target="../media/image12.png"/><Relationship Id="rId9" Type="http://schemas.openxmlformats.org/officeDocument/2006/relationships/image" Target="../media/image19.png"/><Relationship Id="rId10" Type="http://schemas.openxmlformats.org/officeDocument/2006/relationships/image" Target="../media/image12.png"/><Relationship Id="rId11" Type="http://schemas.openxmlformats.org/officeDocument/2006/relationships/image" Target="../media/image8.png"/><Relationship Id="rId12" Type="http://schemas.openxmlformats.org/officeDocument/2006/relationships/hyperlink" Target="http://wiki.eclipse.org/BugDay" TargetMode="External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clipse.org/ecf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8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549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troduction to the Eclipse Communication Framework (ECF)</a:t>
            </a:r>
            <a:br>
              <a:rPr sz="2800"/>
            </a:b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949400" y="406044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cott Lewis (BEA System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Chris Aniszczyk (IBM Lotu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A16CB-50EB-47D8-8790-1DBBF8A74BC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Generic Serv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7770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tarting as an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Appl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AppGenericServ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ynamic Service Discover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Zeroconf Implement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Discovery Using other Mechanisms/Protocol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JXTA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pn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For Plugin Develop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Open and Extensible API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Provider Architecture for Multiple Protocol Suppor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apter Pattern for Types of Commun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Contain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777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re ECF Interfac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Represents session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dapters for communication:  Icontainer.getAdapter(&lt;interface&gt;);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414440"/>
            <a:ext cx="7777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Manager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to get all contai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ind containers that implement presence API adap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Use adapt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ShowAllRosters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1120" y="1371600"/>
            <a:ext cx="77770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31640" indent="-21564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  <a:ea typeface="Arial"/>
              </a:rPr>
              <a:t>ShowSelectedRoster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Items to Contacts View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0760" y="1371240"/>
            <a:ext cx="77770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ding IAction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1</a:t>
            </a: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, </a:t>
            </a: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2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rag and Drop Suppor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org.eclipse.ecf.presence.ui.rosterViewer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RosterEntry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4360" y="1142640"/>
            <a:ext cx="73929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SGI Services, Extension Points and API 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New providers (impl)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Yahoo, Skype, JMS, others (JXTA), etc.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2971800" y="3429000"/>
            <a:ext cx="2971800" cy="21034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Extensibilit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provid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Trivial Provid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Namespa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Agenda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77080" cy="62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Background and Valu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roductory Demo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For Plug-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Extensibilit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PI Summar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’s Next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clus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41A3B-D73B-403E-967D-B66EFF08EAB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RCP Ap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udoku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ntegrated with ECF Buddy Lis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Summary:  API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</a:t>
            </a: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iki.eclipse.org/ECF_API_Doc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atashare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resence/IM/Chat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iscovery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Remote OSGi Servic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What's Next?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777080" cy="51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anymede Roadma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http://</a:t>
            </a: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wiki.eclipse.org/ECF_Ganymede_Roadmap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Community Driven Approach:  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More UI Featur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:  Skype, Jingle, Asterisk, S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Integration with Mylyn/Other Tool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ending Contributions/Effort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d Edit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Code/Java Search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lletin Board Client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gDay Bugs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Conclusion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41408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ECF is a growing project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asily add communications support to your application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Many provider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Webpag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http://</a:t>
            </a: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7"/>
              </a:rPr>
              <a:t>www.eclipse.org/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Newsgroup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clipse.technology.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lways look for Contributors!!!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12"/>
              </a:rPr>
              <a:t>http://wiki.eclipse.org/BugDay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Query bugs for keyword ‘bugday’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Resource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770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roject Home Page:  </a:t>
            </a:r>
            <a:r>
              <a:rPr b="1" lang="en-GB" sz="2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www.eclipse.org/ecf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lugins (anon CVS):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dev.eclipse.or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/cvsroot/technology/org.eclipse.ecf/examples/plugin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webinar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provider.trivial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Background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 is ECF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o put it simply, a framework to create distributed based applications and tools within Eclips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8EBE6-154B-4E5F-BC13-922F8C652B46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Eclipse Us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am Communication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M, Chat, File Sharing, VOIP, etc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Multiple Protocols/Service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oogle Talk/XMPP, Yahoo, MSN, Skype, etc.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nteroperable with other client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F00E6-0363-4CFF-8A28-9DA79EBA95B6}" type="slidenum">
              <a:t>4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Plug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pen API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Presence/IM, File Transfer, Discovery, VOI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xtensibl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Support for Open (or closed) Services and Protocol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clipse, RCP, eRCP, Serv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D53FA-55B2-4380-8222-D8E04344A950}" type="slidenum">
              <a:t>5</a:t>
            </a:fld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4000" y="1142640"/>
            <a:ext cx="51829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tacts List/IM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Links in Cha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RC/Group Ch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Bot (KOS-MOS)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egration with Eclips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RL shar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:  Mylyn, Debug, Shared Edit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6095880" y="1752480"/>
            <a:ext cx="2735280" cy="3733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tact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D2316-6339-4750-BA5E-23CA6743414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Contacts Searching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42640"/>
            <a:ext cx="67831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6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Quick Acces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2330280" cy="3276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114800" y="2362320"/>
            <a:ext cx="4267080" cy="31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nect via Hyperlink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mmunication Links in Documen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xt and Sour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M – Direct Connection with Us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– Join Grou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60320" y="1329840"/>
            <a:ext cx="60976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M/Chat Feature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kype Calling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19320" y="2590920"/>
            <a:ext cx="5943600" cy="23698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Skype &amp; VOI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x</cp:lastModifiedBy>
  <cp:revision>0</cp:revision>
  <dc:subject/>
  <dc:title>RCP Applications</dc:title>
</cp:coreProperties>
</file>