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70587"/>
        <c:axId val="17257436"/>
      </c:barChart>
      <c:catAx>
        <c:axId val="49370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57436"/>
        <c:crosses val="autoZero"/>
        <c:auto val="1"/>
        <c:lblAlgn val="ctr"/>
        <c:lblOffset val="100"/>
        <c:noMultiLvlLbl val="0"/>
      </c:catAx>
      <c:valAx>
        <c:axId val="17257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0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6F9-0123-4007-8A38-66CC4D8C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8E2-0DB4-4547-8BB6-AD1C3677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A80-04A8-4C52-979E-F4A238D8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287-6597-4A09-BA86-0E0D8D05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424-B3F4-4D5F-9AC7-52F18118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B78-5AC3-4722-B08A-DDC98DFA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AED-D07E-48B9-B20C-65A2FDA6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6F9-137A-41FA-AFBA-D5BD0CA6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A13-1CD2-4AA7-8538-62C2E735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ADE-1E73-4D38-B3EA-F7609245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E69-7BB9-448D-A557-124F0A96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A8A-6794-438F-85C3-39BD30D8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0086F-52C8-4924-9711-3404C07C6D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