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567327-90F4-4947-AA5C-EFD0CF2655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are lessons to be learned from the SLF4J experience. How could a new competitor gain mindshare in a market with dominant players and very strong network effects?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ustness, particularly in the context of logging, is a killer feature. Simplicity implies robustness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mall variations in requirements can lead to wide differences in implementations and details of implementation matter. For a logging framework where reliability is paramount, a simpler implementation is preferable to more complex variant even if the latter offers other advant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Java, any string parameter passed to a method is constructed before the method is called. While it make take 2 nanoseconds to evaluate that a logger is disabled for the DEBUG level when logger.debug() is invoked, it may take on “average” over 100 nanosecond to build the string “Hello”+ name. Thus, if you are concerned about performance, you might want to use conditional logging, or the much more convenient new style called parameterized logging introduced in SLF4J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1A930-633B-49DF-9426-46786C123F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46DCD-FC0F-459D-8B4F-EC419B4A2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EF847-07D1-48EF-BE58-80B554F7BC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05C69-133B-4D86-BD3D-D9B073B6B7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82037-B92B-4D00-A21D-57D60C89F6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3FE4A-E60F-4603-BC69-5406DAA705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341B6-F885-488C-B5EE-EBA4A50B4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BCFDE-4569-4CEE-9594-DE8DFFF24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91988-852C-4D13-8A0A-12A2DD6A91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E147E-98AA-4051-BFE2-FD8F2C243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0E46B-4E1D-4DEA-A59F-E8873F33F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CF294-4E4A-429B-8191-67DB93F89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309AF9-C72A-42B6-A31C-2AF6792A890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SLF4J project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 G</a:t>
            </a:r>
            <a:r>
              <a:rPr b="0" lang="fr-CH" sz="3200" spc="-1" strike="noStrike">
                <a:solidFill>
                  <a:srgbClr val="ffffff"/>
                </a:solidFill>
                <a:latin typeface="Arial"/>
              </a:rPr>
              <a:t>ü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lc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eki@qos.c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Bridging legacy system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rcRect l="1367" t="2178" r="1367" b="2178"/>
          <a:stretch/>
        </p:blipFill>
        <p:spPr>
          <a:xfrm>
            <a:off x="755640" y="1341360"/>
            <a:ext cx="7632720" cy="470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Using SLF4J: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graphicFrame>
        <p:nvGraphicFramePr>
          <p:cNvPr id="75" name=""/>
          <p:cNvGraphicFramePr/>
          <p:nvPr/>
        </p:nvGraphicFramePr>
        <p:xfrm>
          <a:off x="684360" y="1557360"/>
          <a:ext cx="7921440" cy="4568760"/>
        </p:xfrm>
        <a:graphic>
          <a:graphicData uri="http://schemas.openxmlformats.org/drawingml/2006/table">
            <a:tbl>
              <a:tblPr/>
              <a:tblGrid>
                <a:gridCol w="2304720"/>
                <a:gridCol w="1839960"/>
                <a:gridCol w="2030400"/>
                <a:gridCol w="1746360"/>
              </a:tblGrid>
              <a:tr h="4568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Archiv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Dire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FTPServ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eronim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Graffit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etsp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Jackrabb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Min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Qpid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Sl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Tapest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ache Wick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ertur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pog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rtifa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itroni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Uni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isplay ta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Maven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adl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reenMai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GumTre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2 Data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A-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Hibernat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genk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absorb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etty v6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Lyn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Mes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ODConverter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Tra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JWebUnit 2.x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FERA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og4jdbc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gnolia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RCP4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indquar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gshot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ul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 marL="533520" indent="-533520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vocod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tC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OpenRDF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enro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ximit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ZFileRea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QuickFIX/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MSJ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pring-OSGi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reamBas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imeFinder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TFIGO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YASL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ooctor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buClr>
                          <a:srgbClr val="ffffff"/>
                        </a:buClr>
                        <a:buFont typeface="Arial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igrator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1238400" y="1957320"/>
            <a:ext cx="666720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Conclusion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39640" y="1628280"/>
            <a:ext cx="777744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mplicity is powerful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-- Evan William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Robustness, particularly in the context of logging, is a killer feature and simplicity implies robustnes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bf1"/>
                </a:solidFill>
                <a:latin typeface="Arial"/>
              </a:rPr>
              <a:t>Jakarta Commons Logging (JCL)</a:t>
            </a:r>
            <a:br>
              <a:rPr sz="4000"/>
            </a:br>
            <a:endParaRPr b="0" lang="en-US" sz="40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69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ame problem domai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ll-established librar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o why do we re-invent the wheel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9072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1116000" y="47973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187280" y="4149720"/>
            <a:ext cx="66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Because details of implementation matter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4400" spc="-1" strike="noStrike">
                <a:solidFill>
                  <a:srgbClr val="e3ebf1"/>
                </a:solidFill>
                <a:latin typeface="Arial"/>
              </a:rPr>
              <a:t>SLF4J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276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H" sz="2800" spc="-1" strike="noStrike">
                <a:solidFill>
                  <a:srgbClr val="ffffff"/>
                </a:solidFill>
                <a:latin typeface="Arial"/>
              </a:rPr>
              <a:t>SLF4J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: Simple Logging Façade for Java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roblem definition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-457200">
              <a:spcBef>
                <a:spcPts val="601"/>
              </a:spcBef>
              <a:buClr>
                <a:srgbClr val="ffffff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bstract logging framework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91440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900000" y="4292640"/>
            <a:ext cx="4103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Automatically/dynam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JC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00000" y="4292640"/>
            <a:ext cx="3959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Manually/staticall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select underlying logging framework (</a:t>
            </a:r>
            <a:r>
              <a:rPr b="0" lang="en-US" sz="2400" spc="-1" strike="noStrike">
                <a:solidFill>
                  <a:srgbClr val="33ccff"/>
                </a:solidFill>
                <a:latin typeface="Arial"/>
              </a:rPr>
              <a:t>in SLF4J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" dur="5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" dur="5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5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1022" t="1244" r="1136" b="968"/>
          <a:stretch/>
        </p:blipFill>
        <p:spPr>
          <a:xfrm>
            <a:off x="971640" y="404640"/>
            <a:ext cx="6840360" cy="561672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2"/>
          <a:srcRect l="1022" t="1273" r="1022" b="2075"/>
          <a:stretch/>
        </p:blipFill>
        <p:spPr>
          <a:xfrm>
            <a:off x="971640" y="476280"/>
            <a:ext cx="6840360" cy="554508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rcRect l="1034" t="1258" r="1012" b="1861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4"/>
          <a:srcRect l="1034" t="1269" r="1012" b="1240"/>
          <a:stretch/>
        </p:blipFill>
        <p:spPr>
          <a:xfrm>
            <a:off x="971640" y="404640"/>
            <a:ext cx="6912000" cy="561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48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58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The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1413000"/>
            <a:ext cx="871200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: import org.slf4j.Logger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: import org.slf4j.LoggerFactory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3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4: public class Wombat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5: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6: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final Logger logger = LoggerFactory.getLogger(Wombat.class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7:   Integer 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8:   Integer old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9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0:   public void setTemperature(Integer temperature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1: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2:     oldT = t;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3:     t = temperature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4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5:     </a:t>
            </a:r>
            <a:r>
              <a:rPr b="1" lang="fr-FR" sz="1400" spc="-1" strike="noStrike">
                <a:solidFill>
                  <a:srgbClr val="33ccff"/>
                </a:solidFill>
                <a:latin typeface="Courier New"/>
              </a:rPr>
              <a:t>logger.debug("Temperature set to {}. Old temperature was {}.", t, oldT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6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7:     if(temperature.intValue() &gt; 50)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8:       logger.info("Temperature has risen above 50 degrees.")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19:  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0:  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Courier New"/>
              </a:rPr>
              <a:t>21: 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250560" y="1125360"/>
            <a:ext cx="8218440" cy="4680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inefficient syle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old style (efficient)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Courier New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2800" spc="-1" strike="noStrike">
                <a:solidFill>
                  <a:srgbClr val="ffffff"/>
                </a:solidFill>
                <a:latin typeface="Arial"/>
              </a:rPr>
              <a:t>new style (efficient):</a:t>
            </a:r>
            <a:r>
              <a:rPr b="0" lang="fr-FR" sz="2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fr-FR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32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32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799"/>
              </a:spcBef>
              <a:buNone/>
              <a:tabLst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Parameterized logging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94920" y="1341360"/>
            <a:ext cx="8218440" cy="506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inefficient syl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old style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if(logger.isDebugEnabled()) {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"+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new style: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logger.debug("Hello </a:t>
            </a:r>
            <a:r>
              <a:rPr b="0" lang="fr-FR" sz="2400" spc="-1" strike="noStrike">
                <a:solidFill>
                  <a:srgbClr val="33ccff"/>
                </a:solidFill>
                <a:latin typeface="Courier New"/>
              </a:rPr>
              <a:t>{}</a:t>
            </a:r>
            <a:r>
              <a:rPr b="0" lang="fr-FR" sz="2400" spc="-1" strike="noStrike">
                <a:solidFill>
                  <a:srgbClr val="ffffff"/>
                </a:solidFill>
                <a:latin typeface="Courier New"/>
              </a:rPr>
              <a:t>", name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Marker API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78920" y="1484280"/>
            <a:ext cx="9828360" cy="44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hibMarker =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              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Factory.getMarker(“hibernate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Marker sqlMarker = MarkerFactory.getMarker(“sql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// organize markers in a graph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sqlMarker.add(hibMarker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361800"/>
                <a:tab algn="l" pos="2387520"/>
                <a:tab algn="l" pos="4775040"/>
                <a:tab algn="l" pos="7162920"/>
                <a:tab algn="l" pos="955044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logger.info(</a:t>
            </a:r>
            <a:r>
              <a:rPr b="1" lang="en-US" sz="2200" spc="-1" strike="noStrike">
                <a:solidFill>
                  <a:srgbClr val="33ccff"/>
                </a:solidFill>
                <a:latin typeface="Courier New"/>
              </a:rPr>
              <a:t>sqlMarker</a:t>
            </a:r>
            <a:r>
              <a:rPr b="0" lang="en-US" sz="2200" spc="-1" strike="noStrike">
                <a:solidFill>
                  <a:srgbClr val="ffffff"/>
                </a:solidFill>
                <a:latin typeface="Courier New"/>
              </a:rPr>
              <a:t>, “select from...”);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bf1"/>
                </a:solidFill>
                <a:latin typeface="Arial"/>
              </a:rPr>
              <a:t>Other supported features</a:t>
            </a:r>
            <a:endParaRPr b="0" lang="en-US" sz="4400" spc="-1" strike="noStrike">
              <a:solidFill>
                <a:srgbClr val="e3ebf1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DC (for log4j, logback and j.u.l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arkers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9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09T15:57:03Z</dcterms:created>
  <dc:creator> Ceki</dc:creator>
  <dc:description/>
  <dc:language>en-US</dc:language>
  <cp:lastModifiedBy> Ceki</cp:lastModifiedBy>
  <dcterms:modified xsi:type="dcterms:W3CDTF">2009-06-26T19:09:57Z</dcterms:modified>
  <cp:revision>35</cp:revision>
  <dc:subject/>
  <dc:title>Slf4j &amp; logback projects</dc:title>
</cp:coreProperties>
</file>