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3"/>
          </p:nvPr>
        </p:nvSpPr>
        <p:spPr>
          <a:xfrm>
            <a:off x="414324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4400" cy="35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5600" cy="4318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5"/>
          </p:nvPr>
        </p:nvSpPr>
        <p:spPr>
          <a:xfrm>
            <a:off x="414324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D8E7E1-CD70-4C7F-BEDB-B9E0310C9BD9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D3213-5591-4671-9DF8-60B8293A6A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52339-87CD-4C21-A8E6-1EF6B11EB3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B1A21-6D6C-4E5B-AB9F-846A47B63C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E1726-735B-41C6-B8A5-5C61AA4D23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90540-B153-4D0B-980A-F26E90FA682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9E060-5CBD-42A4-AAE1-556544F61C8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9E9A8-3428-4F8A-8B7C-8D5AF09B0D8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30C17-4D0A-40C0-852D-410F00FD85C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6FE01-4AEB-4591-8D96-F1BDB75D394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C6D09-1F6D-4B43-BF50-810325C11FA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F52FF-5E59-4B7F-87F5-28D00EB803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0E330-F162-460E-8C63-9E3F8D105D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0C2AB-7AC8-47EF-A2B4-62E8692AC7A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AD908-0A86-482C-AC7B-318465E6653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A37C6-4835-4659-BCA4-A32A2D43602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32C78-1D1D-4F90-A944-2892B76A1D2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1D219-6726-4B91-88C2-C45CC3C5D4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04A80-9AF0-4AD1-B1EB-150F372DC3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AD17F-7300-4A02-8A90-BFF6923E30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C7644-26E4-41F8-8817-DEBEB21A47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3C2AF-A09F-42A6-A71C-1213BF1440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8854F-0140-4C0A-85C4-92821453A8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1DD3C-8531-4923-A5D6-A9BAC8F0A5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6CB8E-89DF-472E-8030-388DD3C6C8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9803" r="0" b="23406"/>
          <a:stretch/>
        </p:blipFill>
        <p:spPr>
          <a:xfrm>
            <a:off x="7451640" y="368280"/>
            <a:ext cx="1692360" cy="792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2323dc"/>
                </a:solidFill>
                <a:latin typeface="Verdana"/>
              </a:rPr>
              <a:t>Click to edit the title text forma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698400" indent="-2332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3" name="" descr=""/>
          <p:cNvPicPr/>
          <p:nvPr/>
        </p:nvPicPr>
        <p:blipFill>
          <a:blip r:embed="rId10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54080" y="6458040"/>
            <a:ext cx="657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DRAFT 2007 Scott Lewis, BEA Systems; Chris Aniszczyk, IBM ; Made available under the Eclipse Public License v 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911640" y="6457680"/>
            <a:ext cx="2117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CCECE6-736C-446B-89D2-5C6063D46844}" type="slidenum"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64000" cy="3564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3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24560" y="64990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2002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3920" y="6226200"/>
            <a:ext cx="4114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26880" indent="-3268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Confidential 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sldNum" idx="2"/>
          </p:nvPr>
        </p:nvSpPr>
        <p:spPr>
          <a:xfrm>
            <a:off x="6883560" y="254160"/>
            <a:ext cx="211752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D60C7D-0169-45F5-A0EE-3BC472F4A87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280" y="6286680"/>
            <a:ext cx="6255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July 31, 200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137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3328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iki.eclipse.org/ECF_API_Docs" TargetMode="External"/><Relationship Id="rId3" Type="http://schemas.openxmlformats.org/officeDocument/2006/relationships/hyperlink" Target="http://wiki.eclipse.org/ECF_API_Docs" TargetMode="External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hyperlink" Target="http://wiki.eclipse.org/ECF_Ganymede_Roadmap" TargetMode="External"/><Relationship Id="rId4" Type="http://schemas.openxmlformats.org/officeDocument/2006/relationships/hyperlink" Target="http://wiki.eclipse.org/ECF_Ganymede_Roadmap" TargetMode="External"/><Relationship Id="rId5" Type="http://schemas.openxmlformats.org/officeDocument/2006/relationships/image" Target="../media/image11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2.png"/><Relationship Id="rId5" Type="http://schemas.openxmlformats.org/officeDocument/2006/relationships/image" Target="../media/image19.png"/><Relationship Id="rId6" Type="http://schemas.openxmlformats.org/officeDocument/2006/relationships/hyperlink" Target="http://www.eclipse.org/ecf" TargetMode="External"/><Relationship Id="rId7" Type="http://schemas.openxmlformats.org/officeDocument/2006/relationships/hyperlink" Target="http://www.eclipse.org/ecf" TargetMode="External"/><Relationship Id="rId8" Type="http://schemas.openxmlformats.org/officeDocument/2006/relationships/image" Target="../media/image12.png"/><Relationship Id="rId9" Type="http://schemas.openxmlformats.org/officeDocument/2006/relationships/image" Target="../media/image19.png"/><Relationship Id="rId10" Type="http://schemas.openxmlformats.org/officeDocument/2006/relationships/image" Target="../media/image12.png"/><Relationship Id="rId11" Type="http://schemas.openxmlformats.org/officeDocument/2006/relationships/image" Target="../media/image8.png"/><Relationship Id="rId12" Type="http://schemas.openxmlformats.org/officeDocument/2006/relationships/hyperlink" Target="http://wiki.eclipse.org/BugDay" TargetMode="External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clipse.org/ecf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8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549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troduction to the Eclipse Communication Framework (ECF)</a:t>
            </a:r>
            <a:br>
              <a:rPr sz="2800"/>
            </a:b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949400" y="406044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cott Lewis (BEA System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Chris Aniszczyk (IBM Lotu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CC630-178C-4DB8-A1D8-DBB6ADF4FA5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Generic Serv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7770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tarting as an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Appl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AppGenericServ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ynamic Service Discover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Zeroconf Implement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Discovery Using other Mechanisms/Protocol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JXTA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pn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For Plugin Develop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Open and Extensible API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Provider Architecture for Multiple Protocol Suppor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apter Pattern for Types of Commun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Contain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77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re ECF Interfac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Represents session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dapters for communication:  Icontainer.getAdapter(&lt;interface&gt;);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414440"/>
            <a:ext cx="7777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Manager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to get all contai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ind containers that implement presence API adap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Use adapt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ShowAllRosters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1120" y="1371600"/>
            <a:ext cx="77770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31640" indent="-21564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  <a:ea typeface="Arial"/>
              </a:rPr>
              <a:t>ShowSelectedRoster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Items to Contacts View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0760" y="1371240"/>
            <a:ext cx="77770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ding IAction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1</a:t>
            </a: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, </a:t>
            </a: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2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rag and Drop Suppor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org.eclipse.ecf.presence.ui.rosterViewer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RosterEntry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4360" y="1142640"/>
            <a:ext cx="73929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SGI Services, Extension Points and API 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New providers (impl)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Yahoo, Skype, JMS, others (JXTA), etc.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2971800" y="3429000"/>
            <a:ext cx="2971800" cy="21034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Extensibilit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provid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Trivial Provid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Namespa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Agenda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77080" cy="62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Background and Valu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roductory Demo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For Plug-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Extensibilit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PI Summar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’s Next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clus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48741-D6AF-4CCF-9C97-9D45471C761C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RCP Ap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udoku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ntegrated with ECF Buddy Lis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Summary:  API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</a:t>
            </a: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iki.eclipse.org/ECF_API_Doc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atashare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resence/IM/Chat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iscovery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Remote OSGi Servic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What's Next?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777080" cy="51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anymede Roadma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http://</a:t>
            </a: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wiki.eclipse.org/ECF_Ganymede_Roadmap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Community Driven Approach:  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More UI Featur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:  Skype, Jingle, Asterisk, S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Integration with Mylyn/Other Tool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ending Contributions/Effort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d Edit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Code/Java Search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lletin Board Client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gDay Bugs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Conclusion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41408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ECF is a growing project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asily add communications support to your application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Many provider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Webpag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http://</a:t>
            </a: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7"/>
              </a:rPr>
              <a:t>www.eclipse.org/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Newsgroup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clipse.technology.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lways look for Contributors!!!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12"/>
              </a:rPr>
              <a:t>http://wiki.eclipse.org/BugDay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Query bugs for keyword ‘bugday’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Resource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770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roject Home Page:  </a:t>
            </a:r>
            <a:r>
              <a:rPr b="1" lang="en-GB" sz="2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www.eclipse.org/ecf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lugins (anon CVS):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dev.eclipse.or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/cvsroot/technology/org.eclipse.ecf/examples/plugin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webinar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provider.trivial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Background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 is ECF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o put it simply, a framework to create distributed based applications and tools within Eclips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673FE-CAFD-4060-90AB-28B5BE5ADE0B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Eclipse Us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am Communication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M, Chat, File Sharing, VOIP, etc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Multiple Protocols/Service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oogle Talk/XMPP, Yahoo, MSN, Skype, etc.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nteroperable with other client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74D08-48FF-48EC-B7E6-46356E4592DF}" type="slidenum">
              <a:t>4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Plug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pen API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Presence/IM, File Transfer, Discovery, VOI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xtensibl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Support for Open (or closed) Services and Protocol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clipse, RCP, eRCP, Serv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05A75-6290-4247-863E-B0D8DECA1E89}" type="slidenum">
              <a:t>5</a:t>
            </a:fld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4000" y="1142640"/>
            <a:ext cx="51829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tacts List/IM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Links in Cha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RC/Group Ch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Bot (KOS-MOS)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egration with Eclips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RL shar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:  Mylyn, Debug, Shared Edit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6095880" y="1752480"/>
            <a:ext cx="2735280" cy="3733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tact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3E4D1-E28A-4ED0-BFA9-07AD00D6073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Contacts Searching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42640"/>
            <a:ext cx="67831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6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Quick Acces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2330280" cy="3276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114800" y="2362320"/>
            <a:ext cx="4267080" cy="31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nect via Hyperlink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mmunication Links in Documen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xt and Sour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M – Direct Connection with Us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– Join Grou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60320" y="1329840"/>
            <a:ext cx="60976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M/Chat Feature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kype Calling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19320" y="2590920"/>
            <a:ext cx="5943600" cy="23698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Skype &amp; VOI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x</cp:lastModifiedBy>
  <cp:revision>0</cp:revision>
  <dc:subject/>
  <dc:title>RCP Applications</dc:title>
</cp:coreProperties>
</file>