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70804"/>
        <c:axId val="29263507"/>
      </c:barChart>
      <c:catAx>
        <c:axId val="38570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63507"/>
        <c:crosses val="autoZero"/>
        <c:auto val="1"/>
        <c:lblAlgn val="ctr"/>
        <c:lblOffset val="100"/>
        <c:noMultiLvlLbl val="0"/>
      </c:catAx>
      <c:valAx>
        <c:axId val="29263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70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791-C8CD-4074-AD1F-15A52268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3DA-8B41-4F12-A5AC-13332E7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CB7-23EB-43DF-BF17-CC352C5D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6D7-47E7-4B2B-AC2C-E27CD742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996-3566-422D-82C7-B99FBE9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A07-6603-4424-96E0-A94D0914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3A6-D157-4B84-A8F6-9F55A8C7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AC9-A59E-4D07-858A-EF0C8512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6CC-F9EC-41D8-B05B-206A5DFB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D8E-3302-4508-9B2A-856D7FA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261-237B-4CC7-BEB2-D3CF219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5B3-B723-4FDF-8524-B0457875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27879-A95C-4BCB-8F7C-F13D4AC114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