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634067"/>
        <c:axId val="42024768"/>
      </c:barChart>
      <c:catAx>
        <c:axId val="576340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24768"/>
        <c:crosses val="autoZero"/>
        <c:auto val="1"/>
        <c:lblAlgn val="ctr"/>
        <c:lblOffset val="100"/>
        <c:noMultiLvlLbl val="0"/>
      </c:catAx>
      <c:valAx>
        <c:axId val="420247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6340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7239-3628-4D2A-B36D-DDBBF6C97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78B2-8764-4044-A0F3-B2398393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A1B8-89A3-4997-8013-C8F36E583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7136-789B-4704-ADBD-9119F035E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F516-2D62-410A-B9FC-59BC0D1D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6658-A231-4928-A725-DF529D6F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1902-F816-4559-A434-A3B4E7BA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6796-7F82-4FAF-84A7-715D0E2C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63FD-6C9F-43C6-8171-A9718F80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AD07-7260-4721-AC92-4AC6E63E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9670-50A5-4D48-819C-B3642682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1B25-76DF-4688-9026-95BB001B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DD549-8168-4CCC-91B8-4DD48720E2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