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425197"/>
        <c:axId val="40636704"/>
      </c:barChart>
      <c:catAx>
        <c:axId val="324251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36704"/>
        <c:crosses val="autoZero"/>
        <c:auto val="1"/>
        <c:lblAlgn val="ctr"/>
        <c:lblOffset val="100"/>
        <c:noMultiLvlLbl val="0"/>
      </c:catAx>
      <c:valAx>
        <c:axId val="406367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251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9556-A3E9-4EAC-A993-A22D69F7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5EF3-8978-4717-A5BF-3852A71C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502C-7970-43FD-90D2-DA10C768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007A-44CA-4A54-B808-1D199C35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DC27-8C11-47E7-A02A-9E86C136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01EC-3B75-4148-8C7B-DCC8949D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C899-8B63-49B4-BC87-DFC716FF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31B0-294C-457F-8C16-14EF5E99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D499-C9C6-4EE7-88BA-585AE28C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187-3550-4B57-9A20-0EB4C695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CE6-5DD6-409D-9C60-A1B07055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5F54-5266-428C-9F23-2104E840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F298E-9779-48AF-8683-53533DFC43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