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38726"/>
        <c:axId val="45198936"/>
      </c:barChart>
      <c:catAx>
        <c:axId val="74138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8936"/>
        <c:crosses val="autoZero"/>
        <c:auto val="1"/>
        <c:lblAlgn val="ctr"/>
        <c:lblOffset val="100"/>
        <c:noMultiLvlLbl val="0"/>
      </c:catAx>
      <c:valAx>
        <c:axId val="45198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38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A70-FAAD-47ED-9CE4-90711C40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560-3D0C-4BDC-92A3-E31E509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D9-59F0-4176-80BC-09355080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B8B-8ECC-42C2-B855-F58C90A3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AAF-5E35-4AEA-A9D4-2412DA7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EC9-B378-4CC2-9529-B2B7427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5DE-6005-40A1-9EF7-112669B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82B-83F0-45B0-ADF7-CC9FC6B3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C15-1313-4395-A60E-BAE702D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7C2-2406-49F4-AA3A-BB90B38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463-5F5B-4819-B087-CDAA28C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20F-D32C-4C6D-BB6B-07EFECD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30EB0-CA04-464C-A55E-3FF2EE883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