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13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0"/>
            <a:ext cx="7315200" cy="9601200"/>
          </a:xfrm>
          <a:custGeom>
            <a:avLst/>
            <a:gdLst>
              <a:gd name="textAreaLeft" fmla="*/ 360 w 7315200"/>
              <a:gd name="textAreaRight" fmla="*/ 7314840 w 7315200"/>
              <a:gd name="textAreaTop" fmla="*/ 360 h 9601200"/>
              <a:gd name="textAreaBottom" fmla="*/ 9600840 h 9601200"/>
            </a:gdLst>
            <a:ahLst/>
            <a:rect l="textAreaLeft" t="textAreaTop" r="textAreaRight" b="textAreaBottom"/>
            <a:pathLst>
              <a:path w="21600" h="28350">
                <a:moveTo>
                  <a:pt x="4" y="0"/>
                </a:moveTo>
                <a:arcTo wR="4" hR="4" stAng="16200000" swAng="-5400000"/>
                <a:lnTo>
                  <a:pt x="0" y="28346"/>
                </a:lnTo>
                <a:arcTo wR="4" hR="4" stAng="10800000" swAng="-5400000"/>
                <a:lnTo>
                  <a:pt x="21596" y="28350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dt" idx="3"/>
          </p:nvPr>
        </p:nvSpPr>
        <p:spPr>
          <a:xfrm>
            <a:off x="4143240" y="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784400" cy="359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5600" cy="43182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4"/>
          </p:nvPr>
        </p:nvSpPr>
        <p:spPr>
          <a:xfrm>
            <a:off x="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 type="sldNum" idx="5"/>
          </p:nvPr>
        </p:nvSpPr>
        <p:spPr>
          <a:xfrm>
            <a:off x="4143240" y="9120240"/>
            <a:ext cx="31543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503C35-21DD-476D-AB3F-26461F797F52}" type="slidenum">
              <a:rPr b="0" lang="en-GB" sz="13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257480" y="72072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370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80D6D-98BB-4EE6-9265-F81B582BE3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EB141-D21D-4653-BA9E-5732EE1D8E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8D3C46-6226-4409-ABAB-18276A9FFE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347B1-ED9E-4E72-AEEC-403171E170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816C0-C649-4100-B69C-F1A9240FE2C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5EDCA-520C-4C5E-BD9D-AA19A77A4B1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D76CE-A594-44DF-8205-392363367C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20D4-ABD1-4A1B-BC0D-8DE7ACAD17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64115-425D-4BED-A359-B4E43BDA861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CD5D-0E45-49F4-A1CD-823AA887BC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4AB877-2946-48C1-ACCB-A30F13C2B1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09A18-8F1E-4DE7-A98D-3BAE46D96B8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5EFDA-7D68-43E8-B8B6-7BB7AD150E2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288BE-81EF-416F-A1C8-3A365C27559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54EC-AB10-4CCC-A76E-AF59F8CBD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3E2763-A950-41B6-A68A-83E78411B61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0804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32080" y="114264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00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0804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32080" y="3791160"/>
            <a:ext cx="249876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CC4EE0-C051-4A94-9DB1-CCDE0A2070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366A-37ED-479E-9CB5-DBD7111552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960AB-C8FD-4E7D-815D-D1F7CBA33E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1D080-7AF4-4F2D-B17E-F0A2F4076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457200"/>
            <a:ext cx="7273800" cy="546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5A28-A2E2-4A4C-A9EC-71594C3504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B842CD-CAE9-4EB5-BE2C-75B0BDB63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0920" y="379116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E7A44-188C-42BA-A1E8-DDBA7D7ECE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0920" y="1142640"/>
            <a:ext cx="378720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000" y="3791160"/>
            <a:ext cx="7761240" cy="241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BE65D-A855-4742-BD9E-EF5EAA1808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5.jpe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29803" r="0" b="23406"/>
          <a:stretch/>
        </p:blipFill>
        <p:spPr>
          <a:xfrm>
            <a:off x="7451640" y="368280"/>
            <a:ext cx="1692360" cy="792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457200"/>
            <a:ext cx="7273800" cy="11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3600" spc="-1" strike="noStrike">
                <a:solidFill>
                  <a:srgbClr val="2323dc"/>
                </a:solidFill>
                <a:latin typeface="Verdana"/>
              </a:rPr>
              <a:t>Click to edit the title text forma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4000" y="1142640"/>
            <a:ext cx="7761240" cy="507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698400" indent="-23328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11430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3" marL="16002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4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5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6" marL="2057400" indent="-228600">
              <a:lnSpc>
                <a:spcPct val="11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4c4c4c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3" name="" descr=""/>
          <p:cNvPicPr/>
          <p:nvPr/>
        </p:nvPicPr>
        <p:blipFill>
          <a:blip r:embed="rId10"/>
          <a:stretch/>
        </p:blipFill>
        <p:spPr>
          <a:xfrm>
            <a:off x="0" y="6453360"/>
            <a:ext cx="9144000" cy="4046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54080" y="6458040"/>
            <a:ext cx="6578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DRAFT 2007 Scott Lewis, BEA Systems; Chris Aniszczyk, IBM ; Made available under the Eclipse Public License v 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911640" y="6457680"/>
            <a:ext cx="21178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C3DB42-7828-41A0-B508-03BA81E228CE}" type="slidenum"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564000" cy="3564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3908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4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28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324560" y="6499080"/>
            <a:ext cx="154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2002 IBM Corporatio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23920" y="6226200"/>
            <a:ext cx="411480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26880" indent="-326880">
              <a:lnSpc>
                <a:spcPct val="98000"/>
              </a:lnSpc>
              <a:spcBef>
                <a:spcPts val="326"/>
              </a:spcBef>
              <a:tabLst>
                <a:tab algn="l" pos="0"/>
                <a:tab algn="l" pos="326880"/>
                <a:tab algn="l" pos="784080"/>
                <a:tab algn="l" pos="1241280"/>
                <a:tab algn="l" pos="1698480"/>
                <a:tab algn="l" pos="2155680"/>
                <a:tab algn="l" pos="2612880"/>
                <a:tab algn="l" pos="3070080"/>
                <a:tab algn="l" pos="3527280"/>
                <a:tab algn="l" pos="3984480"/>
                <a:tab algn="l" pos="4441680"/>
                <a:tab algn="l" pos="4898880"/>
                <a:tab algn="l" pos="5356080"/>
                <a:tab algn="l" pos="5813280"/>
                <a:tab algn="l" pos="6270480"/>
                <a:tab algn="l" pos="6727680"/>
                <a:tab algn="l" pos="7184880"/>
                <a:tab algn="l" pos="7642080"/>
                <a:tab algn="l" pos="8099280"/>
                <a:tab algn="l" pos="8556480"/>
                <a:tab algn="l" pos="9013680"/>
                <a:tab algn="l" pos="947088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Confidential 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950080"/>
            <a:ext cx="9144000" cy="9079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2"/>
          <p:cNvSpPr>
            <a:spLocks noGrp="1"/>
          </p:cNvSpPr>
          <p:nvPr>
            <p:ph type="sldNum" idx="2"/>
          </p:nvPr>
        </p:nvSpPr>
        <p:spPr>
          <a:xfrm>
            <a:off x="6883560" y="254160"/>
            <a:ext cx="2117520" cy="46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6C552D-956C-4A3E-9C71-0A1CFAC16BC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4280" y="6286680"/>
            <a:ext cx="6255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300" spc="-1" strike="noStrike">
                <a:solidFill>
                  <a:srgbClr val="ffffff"/>
                </a:solidFill>
                <a:latin typeface="Arial"/>
              </a:rPr>
              <a:t>July 31, 200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137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1" marL="698400" indent="-23328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2" marL="11430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6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3" marL="16002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2057400" indent="-228600">
              <a:lnSpc>
                <a:spcPct val="5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iki.eclipse.org/ECF_API_Docs" TargetMode="External"/><Relationship Id="rId3" Type="http://schemas.openxmlformats.org/officeDocument/2006/relationships/hyperlink" Target="http://wiki.eclipse.org/ECF_API_Docs" TargetMode="External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hyperlink" Target="http://wiki.eclipse.org/ECF_Ganymede_Roadmap" TargetMode="External"/><Relationship Id="rId4" Type="http://schemas.openxmlformats.org/officeDocument/2006/relationships/hyperlink" Target="http://wiki.eclipse.org/ECF_Ganymede_Roadmap" TargetMode="External"/><Relationship Id="rId5" Type="http://schemas.openxmlformats.org/officeDocument/2006/relationships/image" Target="../media/image11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2.png"/><Relationship Id="rId5" Type="http://schemas.openxmlformats.org/officeDocument/2006/relationships/image" Target="../media/image19.png"/><Relationship Id="rId6" Type="http://schemas.openxmlformats.org/officeDocument/2006/relationships/hyperlink" Target="http://www.eclipse.org/ecf" TargetMode="External"/><Relationship Id="rId7" Type="http://schemas.openxmlformats.org/officeDocument/2006/relationships/hyperlink" Target="http://www.eclipse.org/ecf" TargetMode="External"/><Relationship Id="rId8" Type="http://schemas.openxmlformats.org/officeDocument/2006/relationships/image" Target="../media/image12.png"/><Relationship Id="rId9" Type="http://schemas.openxmlformats.org/officeDocument/2006/relationships/image" Target="../media/image19.png"/><Relationship Id="rId10" Type="http://schemas.openxmlformats.org/officeDocument/2006/relationships/image" Target="../media/image12.png"/><Relationship Id="rId11" Type="http://schemas.openxmlformats.org/officeDocument/2006/relationships/image" Target="../media/image8.png"/><Relationship Id="rId12" Type="http://schemas.openxmlformats.org/officeDocument/2006/relationships/hyperlink" Target="http://wiki.eclipse.org/BugDay" TargetMode="External"/><Relationship Id="rId13" Type="http://schemas.openxmlformats.org/officeDocument/2006/relationships/image" Target="../media/image8.png"/><Relationship Id="rId14" Type="http://schemas.openxmlformats.org/officeDocument/2006/relationships/slideLayout" Target="../slideLayouts/slideLayout3.xml"/><Relationship Id="rId1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clipse.org/ecf" TargetMode="External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0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8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4920" y="2535120"/>
            <a:ext cx="79549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ntroduction to the Eclipse Communication Framework (ECF)</a:t>
            </a:r>
            <a:br>
              <a:rPr sz="2800"/>
            </a:br>
            <a:endParaRPr b="0" i="1" lang="en-US" sz="28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949400" y="4060440"/>
            <a:ext cx="64008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Scott Lewis (BEA System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66"/>
                </a:solidFill>
                <a:latin typeface="Arial"/>
                <a:ea typeface="Arial"/>
              </a:rPr>
              <a:t>Chris Aniszczyk (IBM Lotus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F1AC4-CBDF-4E63-9D64-E07E433DA7A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Generic Serv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7770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tarting as an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Appl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AppGenericServ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ynamic Service Discover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Zeroconf Implement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Discovery Using other Mechanisms/Protocol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JXTA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pn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For Plugin Develop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Open and Extensible API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Provider Architecture for Multiple Protocol Suppor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apter Pattern for Types of Communicat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Container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77708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re ECF Interfac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Represents session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dapters for communication:  Icontainer.getAdapter(&lt;interface&gt;);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1414440"/>
            <a:ext cx="777708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IContainerManager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to get all contain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ind containers that implement presence API adap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Use adapter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3726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:  </a:t>
            </a: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ShowAllRosters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3800" y="228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Presence API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1482840"/>
            <a:ext cx="7543800" cy="40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81120" y="1371600"/>
            <a:ext cx="777708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xa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1640" indent="-21564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  <a:ea typeface="Arial"/>
              </a:rPr>
              <a:t>ShowSelectedRosterContribu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240" y="255600"/>
            <a:ext cx="728964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Items to Contacts View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0760" y="1371240"/>
            <a:ext cx="7777080" cy="49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dding IAction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1</a:t>
            </a: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, </a:t>
            </a: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RosterEntryContribution2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Drag and Drop Support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org.eclipse.ecf.presence.ui.rosterViewer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228600" indent="-228600"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Courier New"/>
              </a:rPr>
              <a:t>RosterEntryDropTarge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684360" y="1142640"/>
            <a:ext cx="739296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OSGI Services, Extension Points and API 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New providers (impl)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Verdana"/>
              </a:rPr>
              <a:t>Yahoo, Skype, JMS, others (JXTA), etc.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2971800" y="3429000"/>
            <a:ext cx="2971800" cy="210348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ECF Extensibility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Adding provider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4000" y="160020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Trivial Provider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IContain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Courier New"/>
              </a:rPr>
              <a:t>Namespa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Agenda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7777080" cy="629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Background and Valu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roductory Demo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For Plug-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Extensibilit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Demo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API Summary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’s Next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clusion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indent="0"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0429-31E1-477B-B4C5-D374A9CAB9B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RCP Ap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udoku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ntegrated with ECF Buddy Lis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Summary:  API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000" y="159984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</a:t>
            </a:r>
            <a:r>
              <a:rPr b="1" lang="en-GB" sz="24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wiki.eclipse.org/ECF_API_Doc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atashare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resence/IM/Chat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Discovery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Remote OSGi Servic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240" y="225000"/>
            <a:ext cx="728964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What's Next?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142640"/>
            <a:ext cx="7777080" cy="512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anymede Roadma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</a:t>
            </a: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wiki.eclipse.org/ECF_Ganymede_Roadmap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Community Driven Approach:  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More UI Feature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VOIP:  Skype, Jingle, Asterisk, SIP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Integration with Mylyn/Other Tool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8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200" spc="-1" strike="noStrike">
                <a:solidFill>
                  <a:srgbClr val="4c4c4c"/>
                </a:solidFill>
                <a:latin typeface="Verdana"/>
              </a:rPr>
              <a:t>Pending Contributions/Efforts</a:t>
            </a:r>
            <a:endParaRPr b="1" lang="en-US" sz="22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d Edit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ShareCode/Java Searching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lletin Board Client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8000"/>
              </a:lnSpc>
              <a:spcBef>
                <a:spcPts val="451"/>
              </a:spcBef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BugDay Bugs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Conclusion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414080"/>
            <a:ext cx="777708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ECF is a growing project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asily add communications support to your application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Many providers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Webpag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http://</a:t>
            </a:r>
            <a:r>
              <a:rPr b="1" lang="en-GB" sz="1800" spc="-1" strike="noStrike" u="sng">
                <a:solidFill>
                  <a:srgbClr val="ccccff"/>
                </a:solidFill>
                <a:uFillTx/>
                <a:latin typeface="Verdana"/>
                <a:hlinkClick r:id="rId7"/>
              </a:rPr>
              <a:t>www.eclipse.org/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Newsgroup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9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4c4c4c"/>
                </a:solidFill>
                <a:latin typeface="Verdana"/>
              </a:rPr>
              <a:t>eclipse.technology.ecf</a:t>
            </a:r>
            <a:endParaRPr b="1" lang="en-US" sz="1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0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Always look for Contributors!!!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 u="sng">
                <a:solidFill>
                  <a:srgbClr val="ccccff"/>
                </a:solidFill>
                <a:uFillTx/>
                <a:latin typeface="Verdana"/>
                <a:hlinkClick r:id="rId12"/>
              </a:rPr>
              <a:t>http://wiki.eclipse.org/BugDay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1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Verdana"/>
              </a:rPr>
              <a:t>Query bugs for keyword ‘bugday’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Resource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4000" y="1142640"/>
            <a:ext cx="77770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roject Home Page:  </a:t>
            </a:r>
            <a:r>
              <a:rPr b="1" lang="en-GB" sz="2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eclipse.org/ecf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ECF Plugins (anon CVS):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1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dev.eclipse.or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1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/cvsroot/technology/org.eclipse.ecf/examples/plugin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webinar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5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4c4c4c"/>
                </a:solidFill>
                <a:latin typeface="Courier New"/>
              </a:rPr>
              <a:t>org.eclipse.ecf.examples.provider.trivial</a:t>
            </a:r>
            <a:endParaRPr b="1" lang="en-US" sz="20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Background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What is ECF?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o put it simply, a framework to create distributed based applications and tools within Eclips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F2E32-FE3C-444E-A1BB-47E9899ACF69}" type="slidenum">
              <a:t>3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Eclipse Us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am Communication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M, Chat, File Sharing, VOIP, etc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Multiple Protocols/Service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Google Talk/XMPP, Yahoo, MSN, Skype, etc.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6000"/>
              </a:lnSpc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Interoperable with other clients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F0AE1-9EB9-480D-8D3C-EB12E649AF55}" type="slidenum">
              <a:t>4</a:t>
            </a:fld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240" y="326880"/>
            <a:ext cx="7289640" cy="58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The Value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00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 </a:t>
            </a: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For Plugin Developer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pen API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2" marL="647640" indent="-216000">
              <a:lnSpc>
                <a:spcPct val="100000"/>
              </a:lnSpc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4c4c4c"/>
                </a:solidFill>
                <a:latin typeface="Verdana"/>
              </a:rPr>
              <a:t>Presence/IM, File Transfer, Discovery, VOIP</a:t>
            </a:r>
            <a:endParaRPr b="1" lang="en-US" sz="24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xtensibl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Support for Open (or closed) Services and Protocol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0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Eclipse, RCP, eRCP, Servers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B9D6-0E0D-40D4-9818-C0FC7EDAAB85}" type="slidenum">
              <a:t>5</a:t>
            </a:fld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684000" y="1142640"/>
            <a:ext cx="51829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ntacts List/IM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Links in Chat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File Transf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RC/Group Chat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Bot (KOS-MOS)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>
              <a:lnSpc>
                <a:spcPct val="101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ntegration with Eclipse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URL shar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6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Others:  Mylyn, Debug, Shared Editing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9"/>
          <a:stretch/>
        </p:blipFill>
        <p:spPr>
          <a:xfrm>
            <a:off x="6095880" y="1752480"/>
            <a:ext cx="2735280" cy="37339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tacts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867C5-9D63-4288-B215-9CCDA5EFF7E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Contacts Searching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42640"/>
            <a:ext cx="678312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6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Quick Access to Contac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233028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4114800" y="2362320"/>
            <a:ext cx="4267080" cy="31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240" y="476280"/>
            <a:ext cx="7289640" cy="55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 Connect via Hyperlink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4000" y="1371600"/>
            <a:ext cx="777708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2000"/>
              </a:lnSpc>
              <a:spcBef>
                <a:spcPts val="499"/>
              </a:spcBef>
              <a:spcAft>
                <a:spcPts val="499"/>
              </a:spcAft>
              <a:buSzPct val="100000"/>
              <a:buBlip>
                <a:blip r:embed="rId1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Communication Links in Document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2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Text and Source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3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IM – Direct Connection with User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  <a:p>
            <a:pPr lvl="1" marL="431640" indent="-215640">
              <a:lnSpc>
                <a:spcPct val="102000"/>
              </a:lnSpc>
              <a:spcBef>
                <a:spcPts val="561"/>
              </a:spcBef>
              <a:spcAft>
                <a:spcPts val="337"/>
              </a:spcAft>
              <a:buSzPct val="100000"/>
              <a:buBlip>
                <a:blip r:embed="rId4"/>
              </a:buBlip>
              <a:tabLst>
                <a:tab algn="l" pos="228600"/>
                <a:tab algn="l" pos="685800"/>
                <a:tab algn="l" pos="1143000"/>
                <a:tab algn="l" pos="1600200"/>
                <a:tab algn="l" pos="2057400"/>
                <a:tab algn="l" pos="2514600"/>
                <a:tab algn="l" pos="2971800"/>
                <a:tab algn="l" pos="3429000"/>
                <a:tab algn="l" pos="3886200"/>
                <a:tab algn="l" pos="4343400"/>
                <a:tab algn="l" pos="4800600"/>
                <a:tab algn="l" pos="5257800"/>
                <a:tab algn="l" pos="5715000"/>
                <a:tab algn="l" pos="6172200"/>
                <a:tab algn="l" pos="6629400"/>
                <a:tab algn="l" pos="7086600"/>
                <a:tab algn="l" pos="7543800"/>
                <a:tab algn="l" pos="8001000"/>
                <a:tab algn="l" pos="8458200"/>
                <a:tab algn="l" pos="89154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4c4c4c"/>
                </a:solidFill>
                <a:latin typeface="Verdana"/>
              </a:rPr>
              <a:t>Chat – Join Group</a:t>
            </a:r>
            <a:endParaRPr b="1" lang="en-US" sz="2600" spc="-1" strike="noStrike">
              <a:solidFill>
                <a:srgbClr val="4c4c4c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760320" y="1329840"/>
            <a:ext cx="60976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IM/Chat Features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  <a:p>
            <a:pPr marL="341280" indent="-341280">
              <a:lnSpc>
                <a:spcPct val="102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569880"/>
                <a:tab algn="l" pos="1027080"/>
                <a:tab algn="l" pos="1484280"/>
                <a:tab algn="l" pos="1941480"/>
                <a:tab algn="l" pos="2398680"/>
                <a:tab algn="l" pos="2855880"/>
                <a:tab algn="l" pos="3313080"/>
                <a:tab algn="l" pos="3770280"/>
                <a:tab algn="l" pos="4227480"/>
                <a:tab algn="l" pos="4684680"/>
                <a:tab algn="l" pos="5141880"/>
                <a:tab algn="l" pos="5599080"/>
                <a:tab algn="l" pos="6056280"/>
                <a:tab algn="l" pos="6513480"/>
                <a:tab algn="l" pos="6970680"/>
                <a:tab algn="l" pos="7427880"/>
                <a:tab algn="l" pos="7885080"/>
                <a:tab algn="l" pos="8342280"/>
                <a:tab algn="l" pos="8799480"/>
                <a:tab algn="l" pos="925668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4c4c4c"/>
                </a:solidFill>
                <a:latin typeface="Verdana"/>
              </a:rPr>
              <a:t>Skype Calling</a:t>
            </a:r>
            <a:endParaRPr b="1" lang="en-US" sz="2800" spc="-1" strike="noStrike">
              <a:solidFill>
                <a:srgbClr val="4c4c4c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219320" y="2590920"/>
            <a:ext cx="5943600" cy="2369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228600" y="457200"/>
            <a:ext cx="7275600" cy="117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3600" spc="-1" strike="noStrike">
                <a:solidFill>
                  <a:srgbClr val="2323dc"/>
                </a:solidFill>
                <a:latin typeface="Verdana"/>
              </a:rPr>
              <a:t>Demo: Skype &amp; VOIP</a:t>
            </a:r>
            <a:endParaRPr b="0" i="1" lang="en-US" sz="3600" spc="-1" strike="noStrike">
              <a:solidFill>
                <a:srgbClr val="2323dc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zx</cp:lastModifiedBy>
  <cp:revision>0</cp:revision>
  <dc:subject/>
  <dc:title>RCP Applications</dc:title>
</cp:coreProperties>
</file>