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99017"/>
        <c:axId val="55783882"/>
      </c:barChart>
      <c:catAx>
        <c:axId val="46899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83882"/>
        <c:crosses val="autoZero"/>
        <c:auto val="1"/>
        <c:lblAlgn val="ctr"/>
        <c:lblOffset val="100"/>
        <c:noMultiLvlLbl val="0"/>
      </c:catAx>
      <c:valAx>
        <c:axId val="55783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99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F5E-6451-4755-850A-E84FC3E4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976-392C-4148-982F-4062A493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00C-1345-40C3-8C3A-266EB343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DF8-6425-4BE6-BABB-24DE83E5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E01-A1F4-49D2-B33B-B14C9E64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FCA-4517-43F1-8DFB-6523A78C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6D5-4EC4-4E4D-B028-F4306F28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263-A24F-438F-9EBB-94B68A0F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87B-7270-4ED3-AADA-31774C5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E08-68F9-4FE0-8223-8301460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F4B-8523-4695-BDE3-16DB8835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E57-EB19-4E3F-800E-84C6EE25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11788-DF17-4E85-BC38-2B981268D4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