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794-94FD-4D41-BCC5-A1C2405A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9D2-BB11-424A-9358-B9BAAF65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23AFE-FDB0-4D1A-9E4A-EA55338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5881-0D9D-4486-84C9-B5713A90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0F45F-DA2B-46D0-88A1-B34F99DB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B58A5-CDA9-430D-8F22-7276E10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D246E-2318-404A-BAF2-3BA53C1E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2780A-BAFD-407E-B222-BBA92DD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9922C-00C0-4452-BC74-979559F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D25A0-BD68-4B83-9858-7004A092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1B347-D7DA-4DF4-8B28-B5B9DC43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D81F8-0498-447A-A195-B702AC15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8A8-FABE-4CD5-A2AE-C9FCED85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2C0F6F-B280-4497-BE7A-F0889402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032B7F-EF00-415A-A2D7-4B24B47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273DED-153C-4084-8A53-01367B8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5343B-9A1D-414A-B8F6-E89183A7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F1D140-509A-43E2-94E0-9FBAD660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227CE0-E7D6-4F94-B25A-BD60C265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1F5CBC-9FEF-4B95-A6B8-4CF34337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2E3AAC-8C82-4D4B-9C78-105EF6C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DD1CF2-033A-4C02-A058-7A92CDE9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C68AFE-4800-4137-80E8-E22F439C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E99-3E97-4408-87A1-A6626E9A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C6D703-560A-43B8-9CBA-6376F5B9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2DFF0-C30A-4EFB-9CA2-82877054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BA6B0-3F89-43EE-B87C-2994F5D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5B807-4A71-4297-A937-1C968BEC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D1528-605E-40CE-BA22-19BBB15D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4251F-03C8-4C17-88C7-493E8714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51740-0FD1-40A6-AC81-FAEDD4F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3F99E-B488-4EEA-99D0-FB3BEBA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F6798-B385-4922-AB5D-9B7B70A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2665-E4C3-465A-8E90-159AB31F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254D-E1A6-4EB2-9285-87EF2364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5C6B5-1E99-4949-967A-18594015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0893B-CACE-4FEB-95E8-AEC007B1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F71D5-5743-473E-A40B-AB77BB61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86B9F-A8AD-47FA-B2D1-F1C63555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58948-B435-4512-A154-EB318F1D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6F6B8-E9B7-4BAD-9E4C-4B43EEF7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6BD49-CE21-4BBD-850F-E2B8A643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BE9AD-94B4-4EA2-81F8-BB9A7F6C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F6B18-1C00-4FE6-A0AA-032A28D4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95062-09BB-421C-9776-B08D40E8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54CD-CAD1-428B-957C-D45EE9B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AEF5C-51E8-4704-86A7-992AB288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D5D16-AFF1-4A09-8B33-BEFBDF5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D860B-3585-4DDC-94B4-AEE592D0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0EA9F-1A85-4D34-BCD6-2F7197EB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2ED36-474A-4BCB-8C28-B514C431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491-48E7-420D-A7B5-B4326EBB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CA2D-E373-4CA8-8B3B-A4961BCB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CA1B-FC80-4AB9-8CF5-ABB2345F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41CA-3B9B-4612-88ED-CBCBFEF5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4A12-D3CC-4AD9-B1CE-4170D52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510-8B61-49E1-94DA-D1A048B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0BF-0568-42C4-AE77-06D429F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0539-0755-49AB-9D4F-122708C3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4823-24D4-4EFC-B532-3BEF3219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478-5063-409B-AC58-F79089FB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39EB-6F81-45DF-86E0-BA7DB154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E6F1-51B6-4E3E-8DAA-3EA17312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11DB-39A1-4FA6-8A94-0333B3B7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3334-5B12-478C-804F-EFA1C915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06F8-D1BF-401F-96EE-B62F6985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C707-A5A0-42BF-BF98-30901983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612-E4FF-4AA2-AF58-49865755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1272-F87E-49E8-A04C-B60F324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5DF2-CF0A-4BB1-A856-EFDD8CA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FD61-AF9B-4829-A548-3023260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F6F12-694F-4ED7-8593-3D0EB505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9F92-9540-4A24-B48B-5CEF46D1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5490-3EDF-4518-A32B-2ACEB59F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E24F-BF29-48E8-B734-F681D6A4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D02D-6E8E-4618-A0C2-D69561C5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FB84-F734-41E6-8112-3EEF683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15C8-5DC3-4840-827F-34E8191D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6F6-956B-446C-B93E-3C7EE91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FB38-BD84-4D3C-B228-2CCE2254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480F-E265-4596-BF65-AFDB1572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6816-8B09-44CB-8938-34BA594F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EA4C-79E9-466C-82F5-2C5DD822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BF1C2-5B13-4C5B-8EC2-87E5576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6830-F21E-4169-8B8C-2746023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2F89-FE3A-4A94-ABB0-6CC1BEC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48F2-5064-4D4B-91AB-9F1590FD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C42D-C48C-46B9-BA09-80A2C212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4BE3E-4E52-46EB-BA65-C7F011AC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95A-22CE-4D22-9619-1F1CA115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00D44-1A09-4B24-B0D9-B636D0F8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D2DD6-2779-4E0C-BFFF-2C8B8C2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638D0-AC7C-470B-875A-9356D2F8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CCD9C-3F7F-43FC-ADC9-EC8C2F11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6B768-4D55-439C-AA1F-9BA1A2E2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E27D3-B916-4B93-B21A-4ACA3641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F40F9-9935-4970-AD28-A5809E8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8C053-0796-4854-9DFE-2299412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E5345-0BAA-4448-A30A-3A8C0244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CC734-D445-4212-9264-4D9EBC82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78D-B95D-4D30-A142-B4C60B0D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28E31-BF0F-4C7B-9C55-D750F807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E07C-FE2C-4BBB-96CA-A6167389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56BA-4894-49B6-B43F-C2688889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EE20-215F-49E9-BC5C-82FDBB25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59B8-E923-47C3-B241-735B56E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1B33E-CD1F-47A8-9ED3-CEFF594B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17D1-FCED-4AB7-83BF-70D3FDE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865A-D60B-43B9-9790-A26AC110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F293-4797-43C1-9494-939A725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55101-F7CA-4884-BFF2-F65627E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5A2-C104-44C6-B48A-D16E268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4D91-24A8-4871-88C7-79C3C6AE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241C-CE92-42F6-B57E-F6963174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F26A-DF7B-4077-A298-2B70D4E9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4E06-BB6F-49C7-A05E-B08C849B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5A3A-C31F-4196-A117-C0AD96D1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136E1-6FFF-4515-A898-4790168D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5541-A84C-455A-A46E-9B062C6A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6590F-0E7C-4878-B3F0-6B783864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3240C-BCF8-4532-9DAF-69B13DFC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2C8F-8DD6-43BC-9467-5A80F83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A40-65C2-42FA-8FB1-CFD47A4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131E-BF5A-4F40-B9ED-2EBA9BCF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0C57-2D4B-449B-980C-7DF13F8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1BF44-04CC-4E68-8816-762C0148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5D43-D0CA-4ADD-B853-98603101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BEE5-82CE-4A0C-A3D8-111B73ED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807DA-F544-47D1-8535-83209A3F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4147E-B62A-4EA4-BD5D-CB24AAF0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C7D94-814D-4CC7-9279-AA3FD76D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5BF4D-947B-4D00-AEB9-B66A7B80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7266-FC50-45AC-9153-50927FA3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37C-6DC6-43CA-AA59-82472DC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7D082-2C8C-4A20-8237-0820AC4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5A2B1-2F6B-4AD5-A9E3-E5E64D1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232CF-0B42-4657-8D89-5C449E6F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80F33-26FD-4416-B225-7D8A4F1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D4EFF-5C48-4BCD-86F8-5675F41C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82EB-E931-4CB6-BA1D-DDCCC4C5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FBAA9-8BB9-40A1-B7FB-0254B936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9E010-AD76-4260-B77F-0C99F099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3BC51-F106-4B6C-8C41-61D193B0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CA539-5215-413B-BA56-B5067A16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6E46-DEB7-4B79-A6B9-C18CC4709F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A517-B257-4111-AF9F-FCC5007F72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B406-BA83-4CC9-90C5-F359A95769B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775-02CF-4F3A-B4F5-CB48ECE8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7C2-29B7-47AC-8676-57E89C9A8E3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B2DE-EDA9-4D2A-BC20-E4013DA4F2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CF70-3333-447C-8B7E-99F5B221843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662D-87A8-4919-A312-3DF640A5E05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DFF3-9D1B-4C53-8BA9-055C5C87E42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798-2A6C-4C22-8CEE-B3434A9B58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69B8-8D9D-4AC9-A938-EF27334174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1557-80C6-4723-A645-7BC5B900F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1D0C-9287-4868-BE72-848F5F1004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EB2-84BD-48D8-A387-C8E16A326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160-398E-4F71-A5B0-91E497791B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C9C1-6DCD-4BDA-A74E-E76AF002540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57DF-2E33-47E9-AA29-1224F32AE39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220D-7F36-4F16-B18B-A5E6F80B91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8A35-3D5E-4F9D-9949-0EE90829C7E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E5F-B7D3-43D6-A320-21424E44FA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376-45DF-4218-B9A1-7F81EA4A0DD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680-12E9-46E0-A9A1-ABD7710BD1E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2475-5819-4EA9-903F-A588DDA00B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402-350B-4844-A91A-492C80DD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25E-C826-4CEA-BB34-5CAF1691FD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B8FDC-D9BF-4A98-86BD-EF48B6CFF9F7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01D78-689E-4F93-8F26-BFEEF57445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6CF48CC-1D25-4966-B873-34220669A7FD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B78C-6E27-445B-AF98-DCCD6BC40EA9}" type="slidenum">
              <a:t>3</a:t>
            </a:fld>
          </a:p>
        </p:txBody>
      </p:sp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7132C-AAD5-436B-809A-CE8343C90A9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2AC0FDA-01BB-425B-B3AB-E368D2330059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3587C-0C26-41B6-B7E4-2223A5FF9E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E14CD5E-203A-4486-BD5E-28B3BB099401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230DA-ECDF-455F-9846-ABFE57A429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5931ECC-FF06-426A-A5FA-E27D8D921ABC}" type="datetime1">
              <a:rPr lang="en-US"/>
              <a:t>07/29/26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