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C5BA-596E-4BC8-855B-478FCFD1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FDB3-7733-447E-AA65-61A29D71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E4E99-653B-484C-8B5C-F2682A11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007E9-ABB2-4712-B6B2-910B1878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9DB48-939E-40BD-86C6-8F9BC64F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F78C8-53F6-4706-977A-A39BE00E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8D8C5-64B2-4FEF-A9EC-1E659C3B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575BC-576F-4833-A432-2B2A3134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B098D-B61B-4B79-9A26-0B38AA6A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6E8C6-7FFD-4EE3-AF14-E63210F8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EEC36-0CA4-45F0-A068-A43F5602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63E641-3E13-4500-8F90-7FDEC277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2509-E388-4AEA-B0DE-71BC281F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E13119-0D26-4455-A44D-EBD4C0F8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C254D7-7999-4B97-B826-81AE2513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4113D6-FAF0-4D27-9649-1845434C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CBAA57-05C5-4827-875A-F9A2AC2C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94D29C-6EB0-4518-926D-42228485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13DDCF-9ADB-48F4-AF61-118125C5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69EFE5-0EFF-4E83-B686-9FE7AE2F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4F3BB8-0426-46D9-A60B-D2CC38BC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E6E483-D3FC-48C7-B486-25C1AF32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3F8DA7-6109-428F-9EA1-7B88AAD41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5D50-F524-488C-B456-65AFA72C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F87E7C-A1A9-49E8-AAE5-4A9650D2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1862E-F409-4EAF-B962-608F4DFE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359D2-2C7B-4DC1-87D9-DAD68C10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3ACD6-3453-4248-BF08-5017EFF5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BC52B-B52D-48DC-8A5E-FAE3F725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35D79-1EB9-4DBB-BDAF-06C1B8FA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6418C-C2DF-4788-B3DF-6451A457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ECD75-AB94-4FBC-AA05-1C005185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1B032-D7CE-4183-85B0-07C778A1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FAEA9-E4CD-45A4-A36F-3820CD2C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9FAF-384C-43F0-9C78-1A9BBA9E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86740-6CD2-40B5-ABCC-1A4E2856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F33C4-D1D6-49B7-9979-9605201A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27D9A-F3AE-4145-91C6-5675BEB1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D09C5-FAC7-4A63-A33A-06219B0A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599C5-3DCC-4B4D-BDBC-F6E02C01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E9AED-26ED-4070-B499-F3DA1AB5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5A5BF-0349-474A-91C8-962DD44E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226B1-6B2D-4EAF-9B94-C995718A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D2543-8CE8-485D-8EDB-A7D5ABE1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90EE1-7B73-4864-903D-23CF67E7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0D1C-A12C-452A-A449-7092F7B8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AEFEA-3314-4F59-B8FD-C8A77C1E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8E4A1-D43F-4B87-9444-490D81E5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345AE-C7E2-423C-9CDD-B51E0468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1DC22-25DE-4E35-8793-4E516B43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01F38-9672-4869-A252-780BB872B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6E63-1C97-4567-B8AD-03568478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8279-5D0A-4106-B3D4-9FE208F4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31DC-9EFA-4B3C-992D-07F0473D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09A6-822A-4C67-805A-8084AC23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B570-DCCD-4DBB-A89F-ACBB57EA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A449-EA8D-4E71-894C-D4E40C10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6BCF-D44C-4A8C-A029-D29D70E9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701E-2879-4A1B-933B-8AADED20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2D18-E1AA-4F3C-9785-9CB5A8B3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AE9C-CB6D-47EF-8C0E-746B8D7A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D0E4-E581-48E7-84B3-41BAFED9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72957-E8EC-4E87-9091-EF280245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F1CD1-D73F-43A6-BDF1-8BFEEE87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BF316-7D79-44CC-9F9A-FB5F7D25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CA76E-548B-407B-9638-8004D581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487F1-8DAF-4C95-9581-17630839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84B7-9041-4D21-8521-CF095CAB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E6FD7-0572-4E03-976A-3C2B0844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76819-290F-4CEF-AE19-A981B782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E2A72-ED55-4FB9-AAA0-03196A17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DE25F-B09D-4BB8-B4DA-815BE018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0648C-96E7-4FEC-A6F1-D15E1B51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85167-6C35-4796-A524-17E9B2C5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9D3B5-2551-4398-BD8B-AD345A97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B8364-E559-4D3F-B58D-D2CADDFE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77B47-09C0-4864-8595-05A499EF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2AEA3-0F3D-47A2-BCA7-0EF3C8DC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AA22-9CEC-478E-8AEF-7CC6016A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D390B-397B-4421-BA31-92EACC9A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A2141-16ED-4D49-AE09-122F4245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56931-AEAC-4635-8EA0-9B1DE215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F3843-B6A1-4908-B7F1-50CB97BF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52DD3-DDA6-4D86-81A6-0231FAE3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411EA-BE2E-46D5-9745-EEF3C6E5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0B5A2-7861-44AC-8613-EEA790A8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5F901-6511-4388-95C7-906A183A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62649-E6BA-48FA-8A7C-0355FC0C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0BC3DD-7917-4F07-A456-5B367EB5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6EC0-B2CC-4054-9AB6-8D59DB1E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6D40CC-B77B-459D-9B9A-E4510867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09110E-B35A-4D20-8507-AB40C2DD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D4DB34-4003-4247-8D6B-FA5499B8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82FCDB-C99C-4457-AA3F-D34DE60D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B965FB-4B57-49CB-8063-D30FFEF6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9829D2-0B42-46A1-A679-1AD47310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8F23E6-A0AB-4DF3-B05F-54CD1665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9A1242-7FF2-469B-9A4A-5097A9BE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1C588C-E536-430F-83F0-13EC721B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87D9D1-2760-4BF6-B66B-F1692A8E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275F-5AE4-4AF5-AAA0-3A69D873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CAF38E-42EA-409C-9610-5E822D84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FB86F-3902-4EDB-B1DA-0761982E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E89DA-1551-49A2-B547-5AB9D6BB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64598-9EC9-41E0-AD83-4D8594B8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65DCE-976F-473E-A9CF-DE0699DC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2EE81-0D27-4AC2-8473-8A0EC0C0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85D04-7F5A-4A45-B58F-A55B49CF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04954-CBFC-43C0-AAC1-AC424196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7A97E-963D-4865-921A-44287F1A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B9579-DC92-4B82-8CD5-021C4255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B678-ECF4-4763-990F-9CB99390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8B0AF-8CEA-44E0-BC03-2A8D117F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8777F-9254-497F-BB97-A54570E5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8BC51-9558-4D5F-8340-5CB222EF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1E226-AEC6-4EB4-9182-646CFE4F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C26B5-B952-4649-8BFE-B79F4D30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86A57-060B-4D4B-81D9-9C415B26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9A7E4-D524-43F5-9D57-F38A8E17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4DD55-1282-4EC1-8719-59303F69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8DA0C-7403-4631-8FEF-6D9650CE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76654-139C-4E54-B17B-81120622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C46A-93C4-4B87-8ED1-D1157A1D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078E2-FC96-4ED8-BCFC-976ADC16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F1555-6174-4778-882B-8B777D9D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6C6B9-D955-4ACD-AE3A-F7352718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FD664-4987-42E7-8CEE-FEEA9E79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6EFE2-2716-4224-9F51-7EDC02C1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607B2-7641-4DEC-BBC9-D5212C22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D5E5E-66E7-48E6-8530-BCB4A131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182F3-685B-4A99-BA4E-4EA74EC8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B0F2A-6EA6-48CC-A418-E46E0C71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424EC-4079-4F00-B69A-D0322E14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A88F-BD15-4687-89EA-B27D43B4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85F3A-F734-4D86-9259-644A67B8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58537-A938-492E-8BB2-F842B067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B40B2-1CD7-46F9-9F00-4A08815C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B6ABA-B5FE-40A1-B9D9-91603A98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46375-2C53-4B2D-ACC0-1D0C4E91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EA2A9-5064-41A3-8B11-BA95605A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046CB-FB85-4445-AF6D-7DFD0A955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D0B49-578D-4180-BA70-F93156A0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EE53F-5A7C-4007-896D-6012FD57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E2CCD-5E4C-4811-B734-105C3F9F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68F1-20BF-4955-A991-95D48F05441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2FB5-D6A4-45B0-8575-21FF60284C9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3956-DDFA-4A0E-B3A1-3AFCDFF3E84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9A58-5289-4180-9CD0-E207D8AAD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1FEA-C702-4A07-A66E-813366DF0FF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1F63-246F-4E03-866D-7518F77EF97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17C2-3053-4CFB-9061-A7F84F238AF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301E-636C-4784-AC8A-12279DBF913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7B27-1525-4491-BA2A-30943EBB981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A6C7-8E4F-40A8-A0FE-FEC668EF70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8230-017E-48D4-BEC2-E5995ADE5ED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90AE-BF6C-4FA9-BC6D-5D24FA782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1D58-F304-4AD2-B5A2-4D79DBC6027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3CF8-90C2-405B-BFBF-E633F4732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9AEF-9DA4-4D22-97F1-5FB2357AB02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1C34-AB01-4A54-B5F1-BFF09AA8A76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B089-8C1D-43FE-9859-1E53C3FEDBA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82E5-0548-4DEB-B82B-FF498BD2A65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8991-4F08-4054-BCE2-E5827F26971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22E7-5839-40DB-83EA-0E72B8B247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0B20-E845-4D33-88E7-1D02E31C714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DDC9-E33E-4BB0-8BFB-85BDD1E6994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87B6-DE9B-4E75-859C-B349D10EE6C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9020-D8ED-4EFC-B31D-BFFD5F860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5140-B504-4F40-BD88-69F018A708B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46BE4-D22E-4CC7-8EF7-85A010292458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8B99F-4E8E-44EF-80CA-276BA357CD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C0F546FA-7D61-472D-B5EF-673EA2204BFC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8DDAF-1189-45CE-B7A6-3921C306B7A9}" type="slidenum">
              <a:t>3</a:t>
            </a:fld>
          </a:p>
        </p:txBody>
      </p:sp>
    </p:spTree>
  </p:cSld>
  <p:transition>
    <p:comb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E2F6AC-422E-4A2F-B225-172A11FDADC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3BACEAA0-2FB2-455C-A3E9-58CE4AF4E17E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D5FB3-3441-4A85-982A-92D78C405A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6667D9AA-98DE-434B-B773-9E4464885AB0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9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7519F-BD14-4925-9BD6-70633AE78BE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A0012F15-D4B8-4C22-80A5-9BD7E8B72D43}" type="datetime1">
              <a:rPr lang="en-US"/>
              <a:t>07/30/26</a:t>
            </a:fld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