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1DE-FF30-4173-9DC6-AE3581EA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C5F-889F-4F81-8A24-8174B0ED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3F75A-70CB-4E30-B687-930AEA48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E762F-13EE-4F0A-9A99-2C27D780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3AD80-2EA9-4FC8-ACF2-585275D9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F5D84-B9DE-4CAD-801D-806D2F0B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1A668-831A-43AD-B6E4-E85EDFB3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04421-7185-4866-A0F0-E9B9023B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88219-2D70-4D9E-BAD3-34E16F26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4008E-95AC-4E97-B636-755FB9C9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4FEDC-D78A-4515-AE5C-F9AC7695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DA2933-6428-4C9B-ACFE-91E295D2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E821-6AD8-4D9F-A774-D15E19C5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FDB8D6-35A6-4451-B6BE-EEE4E0E0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F1F249-23CB-4A8B-926F-29DB93D8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A0D59A-B6EC-4889-858F-7B8A8A40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2A542C-2B17-4276-A6BF-3A373245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8E3D36-B8D9-42A2-8210-59DB2732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9417B4-D020-4289-BACA-DF47AA62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A5E30C-7A0A-48F5-8863-0F4EA89B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EB586B-DDC4-4C92-A99E-B8F9B3BB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10F936-B2C1-4747-8E56-0F9FAC6B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08E908-1D24-4106-8F4A-70EB2203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E66-9100-405F-A208-117B7A70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C16349-E303-47E9-BC18-20E1EA81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23D2A-31B0-4B79-AF11-76DF5A7B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94D40-84B1-401D-87E1-6270CD03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B092C-5AAE-405F-92D4-6C8F0A95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97E5F-DCFE-49A1-9997-771E31F5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978B7-3640-4ED3-B9EE-516E4BF3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6EC7E-EB67-42B9-8FB6-3C5BC1BA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F8741-666F-4CDC-AEF6-5A941943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AE003-E3CA-4FBD-999E-9A091B67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B7822-016D-4F1C-B7B8-C609C4E9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5A18-56B5-461E-B6AC-C3650F15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265DE-F2A4-4767-838C-5A00CDAD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8FB89-4438-4491-95C2-AB08242E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BBD04-E27C-49B6-B4AB-EEB08086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DB595-C466-49B8-9CF5-618323B8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483F7-B0E1-4D31-9923-CCAE66C4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D4403-6A9D-45E2-8CA2-279128E7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8E704-A4FF-47A3-9EC6-C06DD12F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48BF0-A92A-45B2-AA16-5702D5D9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BA60D-0F26-43DC-91FB-009CD227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EFC77-3E02-4D5B-A7C2-8D5455FA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688E-6024-45FA-AAE9-193FEE08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771A9-E7A3-473E-8BD0-B26708D9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8FE6E-CCEF-4D68-A222-4BF4C042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61465-24FC-4580-BE9E-0733E318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646FF-C201-49FE-B861-3C6F3E6E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558B6-18A8-40B4-8A6A-810107E3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3957-72F9-4FED-8778-679F8FCF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C497-57E0-4065-AD4A-A73DFE24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CF0F-54FF-4A6E-88F6-CA7FED8B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DFBB-8CE8-460B-BBBF-1F4400A8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C76B-1C6B-49C8-A9EF-CE0C6985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05AD-6A86-4161-986A-481BF95C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099F-380B-442C-9225-D0CDAF62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C403-44DB-492E-B0D7-794E98B7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0987-7CA1-49BA-8C7B-C4A19E4C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2DA9-1F83-4865-8C34-719B3CAD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F2A8-196E-4227-8028-BD763CB9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3C1CD-6FB4-4006-8556-4CFBF1A6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831D1-598C-45B8-BA61-CC0284C3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A6EA7-8D49-4303-9666-4CC48C76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66253-5B30-4A4E-9900-DF59FE43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92F0F-96B1-49A7-B28A-84655D09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183D-0AFB-46F0-9A98-47A55A54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82AA6-EBE2-489A-9DB2-C74C501B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4FC47-FB20-4A60-BC62-3FABC1E9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74116-6194-4DE6-BB76-E1863305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DE1D0-F4CF-447A-B8A4-6BE8C662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7EE2-1AA6-489B-9782-5C94D6C4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4A0C9-6F79-4F1B-B758-2D8530ED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C5B6D-3348-4113-AB91-CABD0E01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CAB9E-D6F6-4D58-AEDC-542B40C6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6FB6A-AA09-499C-AE97-3FC71AAF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2A5B5-197B-4B37-AE89-EFF47820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C005-7EDB-4CCA-BE85-383CC3E8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D8F8B-30AB-4D37-B07D-84DE8AB8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F8208-F68C-4995-B3BE-0C55DF91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D32A0-706B-449E-835D-735E3707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B681F-5F80-4201-B2AA-73F01B29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39CC7-654D-4751-8FB3-4969C351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3A33A-8DF0-4C2B-94E6-E48702A4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FC42E-327C-410B-B273-0DA6D10E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E5B7C-7A2F-4126-8E09-3386C0C3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A3377-4B08-4A3D-BEB7-B65B1CE9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6D1B3-6392-469A-9386-F1955F09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327-F3C0-4D42-B953-FC18A517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B35D8-06CE-4A30-B316-FCCF513D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9FDE27-B6B6-4039-93B0-3AD77F01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E4438-F9D2-4D48-8CA6-538E107D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28CB4F-8981-47B6-960B-012236D4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1C7B1E-464F-4A42-BE56-D5C3E164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B906D-5EEE-4FBA-AC06-34637661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1F788-C65C-45BD-98DF-9CDEFEA9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9E246-D3D5-4FBF-B472-683ADEF2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B7A0E8-3721-4D46-9841-31B7A9F3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282B2C-723B-4CF0-B343-28DF7F28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803-D501-4210-A1A1-CA4DB199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BDBE02-1C61-4E49-BFDE-C7B23B13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3E83E-B582-4D5C-9867-1FDC69F8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7EDBA-2930-4E8B-BAD3-E7E5B686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B29FF-030A-496D-B953-EC812DD5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CB1C7-D624-4B98-9F98-C29B81CA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D6EF3-7F93-4DC9-B6D4-BE64749A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87585-7F25-4644-A982-86AD0C19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652CD-3AAA-4104-99B3-EF2FA5AF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9F019-846A-43DB-B488-C0C9B4C0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3842D-8FEB-4ECE-8F8F-4AA39178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CDE8-BFF1-4A85-AB7F-0A54BE26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B6B13-DB16-4E77-A5C9-01206C1A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99AF3-F536-485B-97D6-3A240F23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99836-352F-41F0-ABEC-4B4309B7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139B5-8F19-4264-B8DE-0B1600CD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EB369-80F2-4B2F-B984-28CBC277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139B1-4A00-455F-BBF4-BD22F8AA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BB9D6-3327-4EE3-A472-838BBC6C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D0C7F-9C20-47FE-A79C-FFFCCB3B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AF155-6679-45E1-B7F0-1FC81BF6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31AB6-453B-4281-9040-3BAFC3D5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0AB-81AC-4A5D-BFB1-DEE52F70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1AFF2-4A7D-41D4-B151-C30DC42D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C247C-3F78-4F85-894F-1A4FBE06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C575E-12AB-4FF9-87B3-9ABA103E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03528-0339-4EFC-815E-55A23CD1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166A4-A740-47EE-AEFE-3F2EEF3D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AACA0-8846-4D56-BADA-C1554CCA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F8A53-F5EA-47A7-A4E7-273A20D4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9719C-9DB4-4B88-BBBA-1E26FF52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9C60E-C15B-4F3D-BA9B-2A3586FD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6B0CD-BD07-4D27-BA5D-A6FB2A9B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AB8-A149-4C7B-8848-D92FDE1D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68921-C6D4-4255-A316-ECFAC6E4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37CED-6839-4680-BF68-A1DDEB4B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10663-7DB5-40C7-B399-A7DE7D4B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05FB5-CBD1-4D82-8FDE-E17FBA5E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50172-E330-42A7-9E99-4BA9A62F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91B74-C3B3-4062-8770-7267738A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70B99-0DCA-46E6-BF6B-56A22E03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339D6-15A2-4D32-96D8-6B8B622D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83DCD-0B1D-43D3-B10F-5B0B877B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28AE8-403A-423E-BE18-4FE5669C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EE42-928D-4BD4-9E0E-780789F5927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8859-DB7C-46A9-836C-FE7E00E6FC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AE50-6689-4B94-9B51-99D880A734D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FFFC-056D-43E7-B41F-F056D58E1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8F38-507E-42B4-8E70-19029DF9429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503B-8B61-4E08-9311-DC4DB4551EA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2C8F-5DE8-4E66-8052-7AF4C418870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78BF-9FFC-44C7-9A18-6CB06A5C12D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B02F-F48F-47D1-9CA0-E2625BC61FE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CD79-FDF3-4DE7-8B5D-8ED2E9EC69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B1BA-6630-42F5-AD4F-843EAC105C8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861B-D47B-42F9-8D1F-DF5367F55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EA00-D6DA-4DBF-9FE0-52A25F0A0CF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B7DC-7DAD-4837-A4FF-9E3B2FDBE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F830-2D27-4EAF-9FCC-16CEF5BAD2C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EB85-99E1-4BE5-95F4-8CD2479CF32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3CA4-4B78-42C7-9B19-CABD6A037A1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6BD2-5432-442B-AC0E-08C4EBA46D2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789E-784E-4BF2-AA25-6FD6926D494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4F31-AB16-4A75-8966-C1B754D3D9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F0E6-68D7-4C1D-B1B5-1C6EBB04CE9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0DBC-DA66-4D5C-B506-502CFAADAA8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7DF3-D1E0-4695-89FF-D4CE405B154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3569-51B6-4CE0-86BB-CE4C7E031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70C-C0A0-4253-AF82-00EAD93CA4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4E8A4-D0DA-4D39-BC6B-BAB07EDDF11D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7E4CD-D5E5-4688-B479-E1B46AD816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29657BD1-0409-49A1-A23D-0CF80628868A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0C757-370C-402C-BABE-3A1311EAF989}" type="slidenum">
              <a:t>3</a:t>
            </a:fld>
          </a:p>
        </p:txBody>
      </p:sp>
    </p:spTree>
  </p:cSld>
  <p:transition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35625F-9478-4766-A452-AC01EFC65AA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87C129C2-0C31-43F2-AF27-6221781091A0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C4798-F589-48B8-9BC5-C8571B2A1B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12E0917-4807-4EB2-8139-B20F774BE363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9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D6486-3B77-481A-A57E-83C24829862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1DB1F348-5C01-413E-93D7-147B09AC15CF}" type="datetime1">
              <a:rPr lang="en-US"/>
              <a:t>07/29/26</a:t>
            </a:fld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