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3AD29-06C9-4979-A402-96B29D94A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234D6-D6D0-496B-8B1E-C1E751D10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7B5ED-E53B-4C64-90C5-E23B2E9F6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22106-5D1D-45BD-81C0-FFE90A23F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E246D-26D6-4124-9D1A-1460DBB46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0DAF2-4931-47EC-9FF9-46F1D8734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98600-5CC1-4622-910C-A91671668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5BFB4-8DEE-4397-97AA-49C468414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78500-1987-429E-A478-4A1B84EF9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80FE4-D5C0-4A8C-AE4F-7AF5CC677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AE548-1ED4-478A-8A19-5B72C88AD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8CDD0-CC00-4336-BDB3-9396D4021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A1574-CE59-4200-B993-443FD6672F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19200" y="1400040"/>
          <a:ext cx="6105600" cy="405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9200" y="1400040"/>
                    <a:ext cx="610560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3:31Z</dcterms:created>
  <dc:creator>Oliver Craemer</dc:creator>
  <dc:description/>
  <dc:language>en-US</dc:language>
  <cp:lastModifiedBy>Oliver Craemer</cp:lastModifiedBy>
  <dcterms:modified xsi:type="dcterms:W3CDTF">2005-01-06T09:23:42Z</dcterms:modified>
  <cp:revision>1</cp:revision>
  <dc:subject/>
  <dc:title>Slide 1</dc:title>
</cp:coreProperties>
</file>