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68C29-26BB-40D2-BECD-3D687EA94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0C9E5-92A4-4FC2-A142-45ACD9C57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56B34-2C52-4665-9FBC-D528AFAB8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3514B-CA27-4168-A57F-2451DBC0E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A2DE5-2747-4D77-8C47-D419C41E9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FC364-15A2-4F0A-89B5-EB4ADD3BB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6D161-EA24-45F3-A3D6-FB62CD8D1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D525D-AAA8-4C99-934C-7CF71D1C7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52941-DCA0-4CAF-9D18-BA9D0C303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7ECEE-997F-4F4F-BDEB-AC794118A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62971-CEAF-4204-9128-D9D11E528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23205-61E6-4EBD-8FF9-4BC215066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E066B-B23C-4A1A-A596-AD2BBA5B35CE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hexagon">
            <a:avLst>
              <a:gd name="adj" fmla="val 50003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x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plus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r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pentag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gular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Folded Cor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miley 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donut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n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noSmoking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“No“ Symb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parallelogram">
            <a:avLst>
              <a:gd name="adj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arallel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lock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91640 w 7197480"/>
              <a:gd name="textAreaRight" fmla="*/ 5501160 w 7197480"/>
              <a:gd name="textAreaTop" fmla="*/ 423000 h 3598560"/>
              <a:gd name="textAreaBottom" fmla="*/ 2257200 h 35985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ightningBol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ightning Bo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M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-6838200" y="358920"/>
            <a:ext cx="14394240" cy="719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24080 w 7197480"/>
              <a:gd name="textAreaRight" fmla="*/ 6773400 w 7197480"/>
              <a:gd name="textAreaTop" fmla="*/ 424080 h 3598560"/>
              <a:gd name="textAreaBottom" fmla="*/ 3174480 h 3598560"/>
            </a:gdLst>
            <a:ahLst/>
            <a:rect l="textAreaLeft" t="textAreaTop" r="textAreaRight" b="textAreaBottom"/>
            <a:pathLst>
              <a:path w="432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9600" y="21600"/>
                </a:lnTo>
                <a:arcTo wR="3600" hR="3600" stAng="10800000" swAng="5400000"/>
                <a:lnTo>
                  <a:pt x="43200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la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115720 w 7197480"/>
              <a:gd name="textAreaRight" fmla="*/ 719784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582560 w 7197480"/>
              <a:gd name="textAreaRight" fmla="*/ 5614920 w 7197480"/>
              <a:gd name="textAreaTop" fmla="*/ 791280 h 3598560"/>
              <a:gd name="textAreaBottom" fmla="*/ 280728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Trapez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504828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598280 w 7197480"/>
              <a:gd name="textAreaRight" fmla="*/ 719784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259920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iam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ounded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Isosceles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22:04Z</dcterms:created>
  <dc:creator>tb121644</dc:creator>
  <dc:description/>
  <dc:language>en-US</dc:language>
  <cp:lastModifiedBy>tb121644</cp:lastModifiedBy>
  <dcterms:modified xsi:type="dcterms:W3CDTF">2005-05-25T09:56:44Z</dcterms:modified>
  <cp:revision>2</cp:revision>
  <dc:subject/>
  <dc:title>Slide 1</dc:title>
</cp:coreProperties>
</file>