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A028-2449-45DA-AF0D-CB0AF749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60E5-2201-4FE4-BD44-3CEAA24F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85207-3471-4C7F-A8C6-5A8DE77B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D8BC3-B189-46D2-95F6-A5F2A57D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B4A2F-C453-4539-A376-6C7826AC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67BA5-B4B2-49D4-810E-1D7EF904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15099-7008-4303-AC89-65D4D666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715F8-3564-4C3A-9271-63A04680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5DBAB-2080-429C-90F9-72D22F05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F842D-D26B-4634-B61F-30823398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84CC3-4130-42BA-B346-114A3287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609385-5099-4B43-829B-2EFD0AA4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5AF1-4DC0-49B1-9EC2-5856F824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EBA47A-97BE-4359-9174-9117133E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06F0B5-7834-4D29-B6A4-21807FB7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18F71F-ECBD-4DB3-ADFE-C22DBE40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E7169F-23E4-454F-AF58-52010A27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D83517-9C99-4D85-A80E-A8EC7904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2F8A63-830E-48C6-8FF5-08F81A7E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52AB81-4A69-40F6-88D7-40DC85B6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135BFD-EB55-4BBB-B147-4B169DA7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0A44CD-F680-4BA0-BA34-2BEE32AB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AEDFC0-2D52-4F75-9429-16B54471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194-D5FD-4112-B03B-E8136768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19AFB6-6FAE-433C-B2BB-F64FA485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8B91F-C5D4-4E59-B634-22426EAB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6F56B-CA40-4E58-A348-5C9A2EFC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0D2E6-1E74-4BFC-BE15-00B065E0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D2CF2-12ED-4732-8AE2-FED7EF6B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304C7-156C-44EE-9B67-9156630A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F3DE7-C8A3-4DF7-AEC0-0FF43C5E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D2992-D282-4049-AB6B-8796BABE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DD930-456F-4E8E-B773-E8E479B0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55462-B694-47E1-8E21-7F694764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889E-8F55-4A2B-9E1D-9A82CCEC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960AE-E343-40D6-9637-5782033B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1C66E-0877-4B45-B99C-38E6006D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54183-22DE-4F8E-8070-CF984630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D0235-4283-4294-B9A8-5F7CCF42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9BE46-B06A-4B48-BDEE-965506C6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D09EF-4ED7-4AB4-8422-DAE7E9A8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5951D-7268-4B23-9F94-D448D7B3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F5325-48DD-4714-9E09-D2A9B738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FCD7A-99BA-4928-88BF-E2C0938C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735E6-1E2D-461A-9B4F-6A2723B7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264B-197E-423D-83A4-67EB28EF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C78C1-1EE5-4BB7-9671-438338D2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52C1D-7B9E-45AA-8411-49BEB331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65298-FBAC-4255-871B-8D6BB296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64D85-BCCC-440E-BC15-BA2335AC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3B166-BB77-46F4-A120-192D1125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9E16-7A7D-4C73-AAD6-AA5EABBB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27F3-EA31-43F6-B4F4-35951FFC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FA26-8A96-4BBF-9BCA-6D53516C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6523-17A3-43F6-9C85-2A9B76CE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5C86-9272-49AA-88B5-C6A5FB65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4FD9-00FA-44C4-89F1-C3648E3C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C163-C56A-43A0-AC4D-C89C3986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62F9-CB42-4846-B6FF-CBC6AE5C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D8FF-2AF1-4E14-AA4D-7E69F2E6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AAC5-066E-49B4-BDF5-E5D77D32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BF8D-4ADB-4846-9E18-D46E04DC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2312B-1D5D-4E2C-9CF9-FEFEE646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86143-896E-4F7F-81CC-C8D10B96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70D17-C53A-44CE-B36E-BB4C0F14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31186-CAAB-410C-9188-8BE5F901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57F67-3CE8-4D1D-9287-42512D46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426-881B-42B2-B761-D4F2679C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1A9AD-92CC-4408-816D-852C6E0B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8F786-FFF3-4E80-BDC5-F06D7F8E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EFDC8-1C68-4FD3-B7E7-E30BF8B0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29E5F-7F14-433D-AC4E-28E34CEE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70B55-287E-4C60-962F-282D9A23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5FED0-2FD6-485F-A4B2-B5EAF196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F6A2D-E085-4682-92BD-BFEE9F14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A8236-4FC6-4B96-875F-C87AED07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ED695-4340-4034-AEE1-9F82643B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77E84-9FF6-49A8-8351-4513AF30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FEE3-C17D-4D44-B9F1-7029DE78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9F568-C00D-4BE1-81C7-461CD92A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742A2-F24F-49A3-9EFA-53413924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33D96-8411-42A2-BFEC-C02806DF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08D97-8599-43A5-B8B7-9757AF1A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62D09-5390-4221-A4AB-8062E44A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6DEFF-6646-4594-8801-AEC24A83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13F91-8D2D-4A56-B8EE-FAA93595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D691A-6FF5-4738-9DBA-1F432021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575FE-93EA-4DD6-A983-7063B0AF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EF7F2B-3055-4FEF-8CB9-90CF22E9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45E-F0F9-458A-B327-F28DAC18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844575-FC61-4A31-9568-FA5BCE84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E76CE0-284B-4DD6-86DF-8045142A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033D55-875C-4F1F-ADE8-92CD7938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6EDF0B-314F-4B9C-9E22-2F3F30A8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556A1D-D79A-4F59-8176-9FB306F0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765550-5A50-4263-B9CC-77F42589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8CA327-AC0C-43DA-9D58-49843E8F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EDB0F8-EF0F-472A-AC94-06DFF680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38BA4D-D91E-4A8A-BA63-4E651CAA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A6877-E276-4EDC-8156-2762C7FF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8BA7-C849-4C1B-89B2-B4103E71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37A2EF-0DDE-4F63-8BFA-EE115979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B9C8D-99A8-4028-9D3E-DEAA47D4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A093B-2BBA-4C77-8343-C1F06644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2A966-0B0C-4E04-A5C3-AAB4D38B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C9E87-8846-43D7-9664-C43E11C8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A4FAB-903D-4035-BAE3-EDBFF6CB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9F186-6C5B-429A-B78B-74F6101B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E9A63-47F2-4EB1-A985-510FC467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1FCA6-D66B-4C62-9A67-D161C6E5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CDB68-F8C7-43A0-AEA1-93159746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03A1-F29E-4897-86F6-6A635935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9EA2A-4D99-4331-8268-8E9B88D3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23DAA-F70B-40EB-8B42-D3947558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FDB3E-F724-40E1-A054-9383E446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A4BE0-0FB4-4BBF-A477-CE6B5E67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571F7-7E0D-46D4-B6AC-ECCE7830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AA393-24BB-4C38-BC75-0367269C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15C79-BA64-40E9-9758-A20D4D8C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CFEE1-FC09-4338-9682-C07F1ACC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D6CAB-DD35-4102-8C4F-148040CD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EDDF3-8AF9-4E78-9AF4-F9736F60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1FD0-D6F4-4B4E-8264-C6D318D0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FF662-7454-4C32-9E84-219BB4CF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CF6FE-B086-4978-93A1-1CE42EA0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50F7A-8CAC-470B-8403-08E0774F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C7214-D74A-42D3-8966-A36E8233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21AB8-CD1B-479A-AD3F-B6FF7F98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F69B0-F12D-4098-A61C-3A0B0E48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AA5CD-A2F1-4151-8070-71F4057C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A66C7-1EED-4423-A064-71E9F3C1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F9B80-345E-4C75-ADB5-4C20B48D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BB9C9-BB1C-4A90-B747-33548430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A483-B257-4FA9-8DA6-5B8AAF34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C84AD-4870-4BAD-ACD8-7AE5DCE3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62548-BE78-46A6-9D1F-C01A10B9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9BA7F-0DA7-46D8-9CA0-3B1068EC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D1FB5-64D9-4123-9839-98DAAD0F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EEA37-3299-4494-95DF-AC3D59FE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F362D-CB64-42AE-88E5-073A1E48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1E326-86FC-47A6-96D8-9352DE97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4577D-24F9-44B1-AB76-833E1EA9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B45AF-C50A-4F11-A61B-195A9112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89E46-A91D-456E-A22C-A549BB45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4B7F-044A-4779-816C-AD68C6F84B8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E292-B6ED-424D-AFBE-FA1CAA4F3A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0027-B3C1-4F94-BFD6-B74EF617BF9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A3C9-A206-4FEC-A9CA-BC96FFF40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32AA-4FA5-463A-8458-22E1E4BE827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78E6-ED9D-4F73-90E4-21B726EE54B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CA47-5433-4C62-B8BE-B7FE397A012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68AF-1E7D-4681-BE9F-5A97E337F15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98FA-FD4B-4A3D-B39C-F5E1C36251B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7847-6FA9-4F15-9E88-3A007D866A3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7ADC-94C9-47E8-BC04-5457F98FA85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1230-B6A7-46A8-8A41-A8B5888E8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79F8-41BB-49C8-BA50-12DE469F5CE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EA82-EF2F-4FA5-8DA6-E0FEE1E40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0DA7-1609-46A7-841C-DF58DACF35D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7051-7DB2-43B0-A55C-2E67185F308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9078-D6EC-408B-8906-9E150457955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7D4D-B178-42CE-BBF0-D9AAFDECAD0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3746-33F6-42BC-B901-D29DDCAA391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BD2B-105C-4919-B0A5-A71C5052F2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CA40-A82E-4CF3-8506-0EF6EDE1788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193C-B8D0-4D9D-917C-81AF7F0E1D7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372E-D7C2-441C-9617-F94AA0B8819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81AC-FBED-43AE-89FB-9F4F89690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E3D2-FE64-4D16-9CC3-4F53C3BD586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6CCC2-E46D-4721-B300-FB2F7A53A86A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90822-954C-4133-8C14-2FC25127EF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86F27E48-BF16-40C7-BDFB-876E4D6C209F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12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134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35424-BD0A-43E8-A552-00A41640638F}" type="slidenum">
              <a:t>3</a:t>
            </a:fld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541A8D-73AA-4737-8C70-0559B882944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2AB5D2B3-207A-4426-9CF8-4C5BD34BEA05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2707B-23DE-4E54-9465-D1137F6A0D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07CA99F0-E3A1-461B-8217-DE313B8371AD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A8DDE-B087-4589-BF81-2FAE0F14D75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27E25E78-A8B1-4783-9D79-D0C57CD1E6BF}" type="datetime1">
              <a:rPr lang="en-US"/>
              <a:t>07/31/26</a:t>
            </a:fld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