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ACB4-FB75-4009-9395-FF0452445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781B-F930-481E-86F6-A269E16E0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B6DF89-E928-486F-BCED-7FEBB4A14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4EADC6-8113-426C-B8ED-4FE50B38C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BEDDAA-9894-44CD-9B91-5A9DF6367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193D2E-270E-4EA0-8ED9-344D3F79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40F43F-32E8-454D-9336-24A420ED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433895-BC9B-425D-890E-66D89903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CD59AD-0BA4-42BC-9990-0561A8229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749A85-B7B1-42EA-9645-DC48AB78A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0046E1-C128-4D5C-AB7B-7ED21BBB3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8F16A07-94F3-4B15-AC88-84264BB2C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5873-C2CF-4C98-A2AD-22156152F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F232B2A-6B0B-4829-8897-B026C7E43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C57547A-669D-458A-A80B-2658CF658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C18BACF-826F-437D-999E-D26CC7A10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949327E-BA57-4AD2-834E-A5569F777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155358E-EED5-4D09-AAA1-81E3CAB08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317A3FE-7DD4-42C9-A137-8939A7C3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72237A2-627B-4A89-B18A-E1EA41AE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9EA985C-E5BD-41AE-8D55-58B7010F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4EAB063-F92D-40D6-8370-CAA255063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4803183-8589-479C-8E0D-8B4DC5C87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FA22-B7AA-4F5F-AEA5-4DAFF5EA8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818B609-5AD9-4269-BBA3-5FCDD3C62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8F9FC5-A4FE-4DA6-BEEE-49A7CCF34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9E0E52-A58B-43D2-8684-2ABA76437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39DCFB-5002-4204-8D2F-A1A4B8492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6A6105-9C38-4441-9B6B-3E1B2EABB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5FDFDE-8AC9-4500-B65A-EE4389676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5754D1-3E03-40E1-97ED-19BD234B3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3616D5-9CFB-4529-B002-9E6E5AEC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9295FB-CBAA-49E9-8A78-4DA1F282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682C83-939C-4C47-A3DE-0FA70012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DE20C-5873-45A6-8743-649DC84BD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38731B-B1CC-4E95-946D-7A7192A6F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5FBCBB-973A-437E-8365-D87F62E59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C1DECF-6824-4CD1-BC2D-F09504214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43EA11-F1FA-4EEC-B7CC-0CF6C8BD3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ED28F4-752D-4D45-A751-0852C8877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3E68D7-FAD5-4690-985C-213208984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98A9A1-50D8-4469-A7FA-6125E10A6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F3CC5A-81B3-408D-867D-FD793E088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5C2564-D6B7-43AB-B018-DB21E0595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237E94-AB7C-4E98-870F-4141D142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FE253-F518-4B48-B441-B1E27AE70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698D51-995B-4C33-894A-E12950C9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33B1A1-1D3B-4E7C-9E82-3988647B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651AB4-1FC8-4265-9A09-389186791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5B6D87-1A60-4C8B-BE42-36F230B79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B95C85-9475-46EB-AD59-CEC4E0E0C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9ACF4-ED33-4C5C-B7DB-EE8520F32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098FD-9F26-4D2C-A238-D783ED33F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CC38E-83BF-4D99-AB3E-F78D4C029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ADF76-3102-462C-AC18-23720BFC4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80A7E-7A8A-4CE7-A1B7-FEA04C6A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4129-DBE2-448A-A145-6F037BE43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6AE9C-0EE3-4D47-865E-A788849D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DE307-C142-4F09-B71F-F22DF12E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C2D40-9665-4C75-A4C1-563D5B7CB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AAF4D-CC05-4945-A915-547C3F858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AEC4E-4335-49F3-90F9-A3FBC4E91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CF1BA-AFA3-4D3B-A4A7-87BA37209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DB16D-B528-4653-BA97-F58DBC95D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60537-5300-4F17-AB57-0AE3E209E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8D54D-A5E9-4D06-83BC-191C649BE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E32C2-3587-4B21-9950-CBE5D6FA7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FFB0-1D06-4A91-8E19-8662E605F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4CC21-4D16-405D-A6C0-68C488C91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BE931-BD0B-42E9-BF40-18E1EB95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3CEA1-C07A-40F0-9596-E71D692B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3DE0D-844F-4125-B70C-D004395C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C0F7C-268A-4523-AEA2-F8856B00B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F4C59-94F7-4575-9820-1CED64B46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C57C4-E870-48EA-B56C-681D735BA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DE992-3BB6-4724-8755-374D88D28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50717-5186-4B47-A692-91E97C1BE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08CF7-7EB2-4DD6-9B62-1A080E65A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08D7-AF7E-48DA-8330-49696124A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C32AE-44BF-4192-ADF0-066ECE1C4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AC4BD-BE12-4D69-B9C3-54153B8B4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35B21-8AD6-4D77-8479-FF614B610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46AAC-2AEC-4476-9758-8CF422FF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3689E-50D0-4E8A-945C-6C94C381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5C8BB-D711-46BE-8B81-A3FA3379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4A4F5-887D-4073-AF0A-8412FCD33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2C267-158D-443D-94DC-D92332242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583E9-1EFF-45FE-95E0-A7B6A4389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BE17D9-415D-4BC9-A9D6-B03641417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0F30-5B44-4DEA-A54F-0D7C5DD65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EFCCD2-E424-411B-B4DB-E16697788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8928B1-0A38-445B-9672-23FE77B17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DB0721-06F2-4F49-BD6A-867AF1568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15F811-EB7A-4620-8259-A209E001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3C221D-230C-45CC-8376-D880615B6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FAED8A-B8FC-485A-8880-EFFE8112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CDA64C-C501-4483-A252-EBD835CA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DA59F1-DF0B-4A84-ACD5-C8A5C4D5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DC6B7A-D82E-4424-B6D4-DBE9EBBDD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335691-D2DE-4AE6-9CC0-6936D0F06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9A96-DC2A-40E2-961E-16BF5C9C4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FC9F3A-5BC2-4501-8958-8A84CA4F8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28CCF-FE64-44F9-B6E5-A493B183F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93D4F-5050-41CA-80D0-803640558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5E401-2C80-4B1B-B638-C355C6D41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18F90-80FE-42B7-AB84-65616DAB3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188B8-A1E3-45AC-A109-D80E39C53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3918B-D0C6-4CE4-874F-507C325C5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324DE-BAD8-4CEA-97C9-3703C6F9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0194AE-BAF0-47D9-BE49-3981C948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9DFF1-CA86-41E1-B40D-74E977BB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1AF6-D1F3-44AA-9418-AF243A84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A4F5D-8CC8-4CDA-85E0-58B45E845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E101D-D758-412B-A2DF-F7AC8E5DF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DF99B6-C72C-4594-8D2D-115FECBFD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BB9A2F-85EC-423E-896F-8A6F97C9B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7A5084-E1EE-4AAE-AE09-915081622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8CB2FB-C04C-4202-B91F-8D6264422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408A2D-BF1F-4BCF-A71B-CC3818655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A213D-5487-447B-AF09-3D0B21B16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48731-13E1-4207-9B4F-A0B08DE6E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127E8-C7C3-48C6-BCA8-BBB730BF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DF4F-64A7-411D-A13D-B0C25921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8AB88-AE5F-435A-9531-5B62D3E6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934370-D9DA-4464-A1FB-A4073660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BFF08-6BA8-4189-91BC-690ADCCF8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B9A32-6928-4F91-A54F-6A52866AD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5D3AD-690C-42B6-ABC0-9928B1DD9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612ED3-18E2-418F-8BF9-F72AF527F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76F7A0-2074-4E9D-B3BB-5336CB9E0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277E7F-39DE-40C5-9DC3-619813C10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795B5-0553-4B5B-9A54-15460531C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49DF2C-252C-43FB-9E4F-1F336D9CE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11C3-3D09-4042-9525-70759FE2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DDDC7-8645-409E-8C7B-00D5F9333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1FC48F-2EC2-4B89-A557-64B3129E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EF88C-434A-407F-87BA-82140B80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28DFFE-E379-417B-AC2E-E40ED8A2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CA7508-35BC-4A64-940A-B7962914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C81950-397D-4735-BE33-14543EE85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4706C1-7E9D-42A9-8FE4-19588CB1B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04866B-32BD-4A4B-9D6E-C5323439D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4F34FC-7DA5-4B84-903B-60B2C30AF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246F25-E9D3-4090-8370-B5E6B7A80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71C28-968E-47E4-A66E-A65BB4384A59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2380C-0366-41D0-AC33-5C7BCDFAB55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82A01-63A0-4797-9F97-E5C55C49C30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AF99C-AC72-4077-8031-FCB7B19BF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13734-B410-480A-A356-C2414631CD19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3B175-5073-4F95-89C7-21E128A16A0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738B0-4D1A-43BD-A039-CF9A146AD69D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82715-F95C-4FB3-9537-7C0570BF8E8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52752-47EA-47CA-AE18-87F6593A5DE5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5DAD6-7D2E-4C93-8E17-E9F7246CAA1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4E021-0FEA-468D-A0D4-CBAAACA553A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C5D76-7B8B-4538-A277-8F97C36B43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09D36-5A26-4877-A2D9-4AD63165133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4ED56-448D-43F6-9E91-CB5FA2CACA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EDB7D-C490-476D-B9DC-A7D23F9E04B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CC6B4-E870-45EB-8915-B61181527327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C6F8-BA8D-49DC-A20A-65A1B1245055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9073-ADE0-4FA7-8F70-9205A5E67AA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7F6C8-42A3-4B57-AE87-5529F57567B3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448CB-2E37-405C-AC68-CDB3AF180BC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75170-A54C-42BF-A7C1-D68BCD8D159A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94A1-18F3-4F84-9D3A-1CD04EA93FB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698F9-7137-43E3-AE18-4C09EC9EEC0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B169E-748A-43DE-834C-58B12E0C8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C66E-E897-4DA6-83D6-27B982E0AE1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545E35-7152-45BE-AFBF-059D3ABBB4E3}" type="datetime1">
              <a:rPr lang="en-US"/>
              <a:t>07/28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629F54-C69B-4850-B4C5-0ACDD3B6968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0EFDF57E-4B4D-4496-8005-9897F70C059F}" type="datetime1">
              <a:rPr lang="en-US"/>
              <a:t>07/28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2000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6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4724F-7556-4E36-84CA-59A2711264E4}" type="slidenum">
              <a:t>3</a:t>
            </a:fld>
          </a:p>
        </p:txBody>
      </p:sp>
    </p:spTree>
  </p:cSld>
  <p:transition>
    <p:comb dir="horz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6011D8-CFAA-4DE9-9BB8-469571758BCA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CC0BCAF8-8C1A-4498-AF81-83BD762AFE03}" type="datetime1">
              <a:rPr lang="en-US"/>
              <a:t>07/28/26</a:t>
            </a:fld>
          </a:p>
        </p:txBody>
      </p:sp>
    </p:spTree>
  </p:cSld>
  <p:transition>
    <p:wedg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4000"/>
                            </p:stCondLst>
                            <p:childTnLst>
                              <p:par>
                                <p:cTn id="2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000"/>
                            </p:stCondLst>
                            <p:childTnLst>
                              <p:par>
                                <p:cTn id="2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8000"/>
                            </p:stCondLst>
                            <p:childTnLst>
                              <p:par>
                                <p:cTn id="2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789B46-EBA3-4822-8179-80D44FCCCF3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37460C6B-C3E6-4F26-809E-467D70AC500E}" type="datetime1">
              <a:rPr lang="en-US"/>
              <a:t>07/28/26</a:t>
            </a:fld>
          </a:p>
        </p:txBody>
      </p:sp>
    </p:spTree>
  </p:cSld>
  <p:transition>
    <p:wipe dir="d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000"/>
                            </p:stCondLst>
                            <p:childTnLst>
                              <p:par>
                                <p:cTn id="2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4000"/>
                            </p:stCondLst>
                            <p:childTnLst>
                              <p:par>
                                <p:cTn id="2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0"/>
                            </p:stCondLst>
                            <p:childTnLst>
                              <p:par>
                                <p:cTn id="2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6000"/>
                            </p:stCondLst>
                            <p:childTnLst>
                              <p:par>
                                <p:cTn id="29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7000"/>
                            </p:stCondLst>
                            <p:childTnLst>
                              <p:par>
                                <p:cTn id="3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8000"/>
                            </p:stCondLst>
                            <p:childTnLst>
                              <p:par>
                                <p:cTn id="3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9000"/>
                            </p:stCondLst>
                            <p:childTnLst>
                              <p:par>
                                <p:cTn id="3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1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3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5720A6-6A68-4E05-A484-C7CC2AEFA13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065B8776-E551-4351-921F-1501CA77D97D}" type="datetime1">
              <a:rPr lang="en-US"/>
              <a:t>07/28/26</a:t>
            </a:fld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0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8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49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7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8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