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HG Mincho Light J;MS Gothic;HG "/>
              </a:rPr>
              <a:t>Some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HG Mincho Light J;MS Gothic;HG "/>
              </a:rPr>
              <a:t>Notes of second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81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81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81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81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81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81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81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8960"/>
            <a:ext cx="8228160" cy="73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81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81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81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81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utch Parse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y initial test file for the PowerPoint parser of nu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cond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Uni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I do not know the content and I can not read it, just gathered from other ppt-fi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езентация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phan Stritt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phan Strittmatter</dc:creator>
  <dc:description/>
  <dc:language>en-US</dc:language>
  <cp:lastModifiedBy>Stephan Strittmatter</cp:lastModifiedBy>
  <cp:revision>0</cp:revision>
  <dc:subject/>
  <dc:title>Test</dc:title>
</cp:coreProperties>
</file>