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44290"/>
        <c:axId val="78016972"/>
      </c:barChart>
      <c:catAx>
        <c:axId val="316442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16972"/>
        <c:crosses val="autoZero"/>
        <c:auto val="1"/>
        <c:lblAlgn val="ctr"/>
        <c:lblOffset val="100"/>
        <c:noMultiLvlLbl val="0"/>
      </c:catAx>
      <c:valAx>
        <c:axId val="780169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442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7752-8CE7-4B87-81CD-C7EF320D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1643-AFEF-4170-AEF0-ADFDCA5D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632-50D0-4FBC-9C5F-8F4E466A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D0C1-A436-463A-BCAE-2748FB6C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5153-8678-4305-AEFB-1D2C270F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8F9-ABAD-4CB7-AD95-9D54FE2B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3B96-6BA6-4556-B931-2ACEB6C1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8735-CDC4-4953-95A2-13670FF5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691E-F543-4B58-B03A-8AF9EFBA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3EA-BF1C-4519-AFBB-D9BC1653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B6B-8FEB-4873-ACDB-0E6E0954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C46-4CA0-4DC7-869C-6D7B4A8C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6DBF2-CD2B-488C-8C24-C69B3C8EC9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